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9C970-90E9-4BB2-8864-87A448138C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4377B-419D-425A-A754-33C4F0545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5D4CE-4EEA-4DBA-8D22-AE414FBA8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675551-9606-4D32-BD78-A66510EA04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AC1D0-C84B-4F9D-A16E-D446B3B66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6D1A9-B65A-43F1-A6A1-F8917CDE1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5CBB4-FA35-40FD-B81A-67F74D127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E47D8-245F-4BD2-B797-FF11C078D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11E1E-EA4F-4D90-AD6F-AE22AD7BF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E09D0-5517-485D-8FC0-F1CF98390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10E13-3BC3-46D2-B5A2-810D6DCEC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6FC73-774A-4855-A60F-6ED417807D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8D5BB-FC93-40C0-93D5-2E32257500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slide8.xml"/><Relationship Id="rId4" Type="http://schemas.openxmlformats.org/officeDocument/2006/relationships/image" Target="../media/image1.pn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slide8.xml"/><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slide" Target="slide3.xml"/><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 Target="slide6.xml"/><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slide" Target="slide7.xml"/><Relationship Id="rId1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slide8.xm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slide8.xm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slide8.xm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slide8.xm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slide8.xml"/><Relationship Id="rId4" Type="http://schemas.openxmlformats.org/officeDocument/2006/relationships/image" Target="../media/image1.pn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slide8.xml"/><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slide" Target="slide9.xml"/><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 Target="slide12.xml"/><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slide" Target="slide10.xml"/><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 Target="slide15.xml"/><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slide" Target="slide14.xml"/><Relationship Id="rId2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41" name=""/>
          <p:cNvGrpSpPr/>
          <p:nvPr/>
        </p:nvGrpSpPr>
        <p:grpSpPr>
          <a:xfrm>
            <a:off x="1440" y="0"/>
            <a:ext cx="9183960" cy="6886800"/>
            <a:chOff x="1440" y="0"/>
            <a:chExt cx="9183960" cy="6886800"/>
          </a:xfrm>
        </p:grpSpPr>
        <p:grpSp>
          <p:nvGrpSpPr>
            <p:cNvPr id="42" name=""/>
            <p:cNvGrpSpPr/>
            <p:nvPr/>
          </p:nvGrpSpPr>
          <p:grpSpPr>
            <a:xfrm>
              <a:off x="1440" y="0"/>
              <a:ext cx="9178920" cy="6886800"/>
              <a:chOff x="1440" y="0"/>
              <a:chExt cx="9178920" cy="6886800"/>
            </a:xfrm>
          </p:grpSpPr>
          <p:grpSp>
            <p:nvGrpSpPr>
              <p:cNvPr id="43" name=""/>
              <p:cNvGrpSpPr/>
              <p:nvPr/>
            </p:nvGrpSpPr>
            <p:grpSpPr>
              <a:xfrm>
                <a:off x="1440" y="0"/>
                <a:ext cx="9178920" cy="6886800"/>
                <a:chOff x="1440" y="0"/>
                <a:chExt cx="9178920" cy="6886800"/>
              </a:xfrm>
            </p:grpSpPr>
            <p:grpSp>
              <p:nvGrpSpPr>
                <p:cNvPr id="44" name=""/>
                <p:cNvGrpSpPr/>
                <p:nvPr/>
              </p:nvGrpSpPr>
              <p:grpSpPr>
                <a:xfrm>
                  <a:off x="1440" y="0"/>
                  <a:ext cx="9178920" cy="6886800"/>
                  <a:chOff x="1440" y="0"/>
                  <a:chExt cx="9178920" cy="6886800"/>
                </a:xfrm>
              </p:grpSpPr>
              <p:grpSp>
                <p:nvGrpSpPr>
                  <p:cNvPr id="45" name=""/>
                  <p:cNvGrpSpPr/>
                  <p:nvPr/>
                </p:nvGrpSpPr>
                <p:grpSpPr>
                  <a:xfrm>
                    <a:off x="1440" y="0"/>
                    <a:ext cx="9178920" cy="6858000"/>
                    <a:chOff x="1440" y="0"/>
                    <a:chExt cx="9178920" cy="6858000"/>
                  </a:xfrm>
                </p:grpSpPr>
                <p:sp>
                  <p:nvSpPr>
                    <p:cNvPr id="46"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 name=""/>
                    <p:cNvGrpSpPr/>
                    <p:nvPr/>
                  </p:nvGrpSpPr>
                  <p:grpSpPr>
                    <a:xfrm>
                      <a:off x="539640" y="0"/>
                      <a:ext cx="8640720" cy="6381720"/>
                      <a:chOff x="539640" y="0"/>
                      <a:chExt cx="8640720" cy="6381720"/>
                    </a:xfrm>
                  </p:grpSpPr>
                  <p:grpSp>
                    <p:nvGrpSpPr>
                      <p:cNvPr id="48" name=""/>
                      <p:cNvGrpSpPr/>
                      <p:nvPr/>
                    </p:nvGrpSpPr>
                    <p:grpSpPr>
                      <a:xfrm>
                        <a:off x="576360" y="0"/>
                        <a:ext cx="8604000" cy="1628640"/>
                        <a:chOff x="576360" y="0"/>
                        <a:chExt cx="8604000" cy="1628640"/>
                      </a:xfrm>
                    </p:grpSpPr>
                    <p:sp>
                      <p:nvSpPr>
                        <p:cNvPr id="49"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1"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3"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4"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 name=""/>
                  <p:cNvGrpSpPr/>
                  <p:nvPr/>
                </p:nvGrpSpPr>
                <p:grpSpPr>
                  <a:xfrm>
                    <a:off x="179280" y="12600"/>
                    <a:ext cx="576360" cy="6836040"/>
                    <a:chOff x="179280" y="12600"/>
                    <a:chExt cx="576360" cy="6836040"/>
                  </a:xfrm>
                </p:grpSpPr>
                <p:sp>
                  <p:nvSpPr>
                    <p:cNvPr id="56"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7"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8"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0"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1"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62"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63"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64"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65"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6"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8"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9"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70"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71"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72"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3"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74"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5"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76"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8"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80"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81"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82"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83"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84"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43"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44"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45"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46"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8"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9" name="" descr=""/>
            <p:cNvPicPr/>
            <p:nvPr/>
          </p:nvPicPr>
          <p:blipFill>
            <a:blip r:embed="rId4"/>
            <a:stretch/>
          </p:blipFill>
          <p:spPr>
            <a:xfrm>
              <a:off x="8782200" y="27000"/>
              <a:ext cx="403200" cy="954000"/>
            </a:xfrm>
            <a:prstGeom prst="rect">
              <a:avLst/>
            </a:prstGeom>
            <a:ln w="0">
              <a:noFill/>
            </a:ln>
          </p:spPr>
        </p:pic>
      </p:grpSp>
      <p:pic>
        <p:nvPicPr>
          <p:cNvPr id="150" name="" descr=""/>
          <p:cNvPicPr/>
          <p:nvPr/>
        </p:nvPicPr>
        <p:blipFill>
          <a:blip r:embed="rId5"/>
          <a:stretch/>
        </p:blipFill>
        <p:spPr>
          <a:xfrm>
            <a:off x="5651640" y="3357720"/>
            <a:ext cx="2571480" cy="1771560"/>
          </a:xfrm>
          <a:prstGeom prst="rect">
            <a:avLst/>
          </a:prstGeom>
          <a:ln w="76320">
            <a:solidFill>
              <a:srgbClr val="ffff00"/>
            </a:solidFill>
            <a:miter/>
          </a:ln>
        </p:spPr>
      </p:pic>
      <p:pic>
        <p:nvPicPr>
          <p:cNvPr id="151" name="" descr=""/>
          <p:cNvPicPr/>
          <p:nvPr/>
        </p:nvPicPr>
        <p:blipFill>
          <a:blip r:embed="rId6"/>
          <a:stretch/>
        </p:blipFill>
        <p:spPr>
          <a:xfrm>
            <a:off x="1476360" y="2205000"/>
            <a:ext cx="4467240" cy="1905120"/>
          </a:xfrm>
          <a:prstGeom prst="rect">
            <a:avLst/>
          </a:prstGeom>
          <a:ln w="76320">
            <a:solidFill>
              <a:srgbClr val="ffff00"/>
            </a:solidFill>
            <a:miter/>
          </a:ln>
        </p:spPr>
      </p:pic>
      <p:sp>
        <p:nvSpPr>
          <p:cNvPr id="152" name=""/>
          <p:cNvSpPr/>
          <p:nvPr/>
        </p:nvSpPr>
        <p:spPr>
          <a:xfrm>
            <a:off x="4500720" y="5229360"/>
            <a:ext cx="4174920" cy="135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vantGarde Bk BT"/>
              </a:rPr>
              <a:t>Paula Jurado Regidor</a:t>
            </a: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vantGarde Bk BT"/>
              </a:rPr>
              <a:t>Evaristo Cantueso Gª de Vinuesa</a:t>
            </a:r>
            <a:endParaRPr b="0" lang="en-US" sz="16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vantGarde Bk BT"/>
              </a:rPr>
              <a:t>2º LADE grupo B</a:t>
            </a:r>
            <a:endParaRPr b="0" lang="en-US" sz="14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3" name="" descr=""/>
          <p:cNvPicPr/>
          <p:nvPr/>
        </p:nvPicPr>
        <p:blipFill>
          <a:blip r:embed="rId7"/>
          <a:stretch/>
        </p:blipFill>
        <p:spPr>
          <a:xfrm>
            <a:off x="2843280" y="4005360"/>
            <a:ext cx="2471760" cy="2023920"/>
          </a:xfrm>
          <a:prstGeom prst="rect">
            <a:avLst/>
          </a:prstGeom>
          <a:ln w="76320">
            <a:solidFill>
              <a:srgbClr val="ffff00"/>
            </a:solidFill>
            <a:miter/>
          </a:ln>
        </p:spPr>
      </p:pic>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1115" name=""/>
          <p:cNvSpPr/>
          <p:nvPr/>
        </p:nvSpPr>
        <p:spPr>
          <a:xfrm>
            <a:off x="34920" y="1125360"/>
            <a:ext cx="371520" cy="4104000"/>
          </a:xfrm>
          <a:prstGeom prst="rect">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66600" y="1430280"/>
            <a:ext cx="257400" cy="574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p:txBody>
      </p:sp>
      <p:grpSp>
        <p:nvGrpSpPr>
          <p:cNvPr id="1117" name=""/>
          <p:cNvGrpSpPr/>
          <p:nvPr/>
        </p:nvGrpSpPr>
        <p:grpSpPr>
          <a:xfrm>
            <a:off x="395280" y="2276640"/>
            <a:ext cx="8675640" cy="936360"/>
            <a:chOff x="395280" y="2276640"/>
            <a:chExt cx="8675640" cy="936360"/>
          </a:xfrm>
        </p:grpSpPr>
        <p:sp>
          <p:nvSpPr>
            <p:cNvPr id="1118" name=""/>
            <p:cNvSpPr/>
            <p:nvPr/>
          </p:nvSpPr>
          <p:spPr>
            <a:xfrm>
              <a:off x="466560" y="2276640"/>
              <a:ext cx="8209080" cy="936360"/>
            </a:xfrm>
            <a:prstGeom prst="rect">
              <a:avLst/>
            </a:prstGeom>
            <a:solidFill>
              <a:srgbClr val="ffff99"/>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9" name=""/>
            <p:cNvGrpSpPr/>
            <p:nvPr/>
          </p:nvGrpSpPr>
          <p:grpSpPr>
            <a:xfrm>
              <a:off x="395280" y="2492280"/>
              <a:ext cx="8675640" cy="518760"/>
              <a:chOff x="395280" y="2492280"/>
              <a:chExt cx="8675640" cy="518760"/>
            </a:xfrm>
          </p:grpSpPr>
          <p:sp>
            <p:nvSpPr>
              <p:cNvPr id="1120" name=""/>
              <p:cNvSpPr/>
              <p:nvPr/>
            </p:nvSpPr>
            <p:spPr>
              <a:xfrm>
                <a:off x="1476360" y="2492280"/>
                <a:ext cx="1152720" cy="51876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ENTACIÓN Y ACEPTACIÓN OFERTA</a:t>
                </a:r>
                <a:endParaRPr b="0" lang="en-US" sz="900" spc="-1" strike="noStrike">
                  <a:solidFill>
                    <a:srgbClr val="000000"/>
                  </a:solidFill>
                  <a:latin typeface="Arial"/>
                </a:endParaRPr>
              </a:p>
            </p:txBody>
          </p:sp>
          <p:sp>
            <p:nvSpPr>
              <p:cNvPr id="1121" name=""/>
              <p:cNvSpPr/>
              <p:nvPr/>
            </p:nvSpPr>
            <p:spPr>
              <a:xfrm>
                <a:off x="2700360" y="2509200"/>
                <a:ext cx="934920" cy="4870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ANIFICAR TRABAJOS</a:t>
                </a:r>
                <a:endParaRPr b="0" lang="en-US" sz="900" spc="-1" strike="noStrike">
                  <a:solidFill>
                    <a:srgbClr val="000000"/>
                  </a:solidFill>
                  <a:latin typeface="Arial"/>
                </a:endParaRPr>
              </a:p>
            </p:txBody>
          </p:sp>
          <p:sp>
            <p:nvSpPr>
              <p:cNvPr id="1122" name=""/>
              <p:cNvSpPr/>
              <p:nvPr/>
            </p:nvSpPr>
            <p:spPr>
              <a:xfrm>
                <a:off x="4572000" y="2509200"/>
                <a:ext cx="863640" cy="4870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JECUTAR OBRA/</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BAJO</a:t>
                </a:r>
                <a:endParaRPr b="0" lang="en-US" sz="900" spc="-1" strike="noStrike">
                  <a:solidFill>
                    <a:srgbClr val="000000"/>
                  </a:solidFill>
                  <a:latin typeface="Arial"/>
                </a:endParaRPr>
              </a:p>
            </p:txBody>
          </p:sp>
          <p:sp>
            <p:nvSpPr>
              <p:cNvPr id="1123" name=""/>
              <p:cNvSpPr/>
              <p:nvPr/>
            </p:nvSpPr>
            <p:spPr>
              <a:xfrm>
                <a:off x="3708360" y="2509200"/>
                <a:ext cx="782640" cy="4870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RAR MATERIAL</a:t>
                </a:r>
                <a:endParaRPr b="0" lang="en-US" sz="900" spc="-1" strike="noStrike">
                  <a:solidFill>
                    <a:srgbClr val="000000"/>
                  </a:solidFill>
                  <a:latin typeface="Arial"/>
                </a:endParaRPr>
              </a:p>
            </p:txBody>
          </p:sp>
          <p:sp>
            <p:nvSpPr>
              <p:cNvPr id="1124" name=""/>
              <p:cNvSpPr/>
              <p:nvPr/>
            </p:nvSpPr>
            <p:spPr>
              <a:xfrm>
                <a:off x="5508720" y="2499840"/>
                <a:ext cx="1150920" cy="49644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GUIMIENTO Y CONTROL DE OBRA</a:t>
                </a:r>
                <a:endParaRPr b="0" lang="en-US" sz="900" spc="-1" strike="noStrike">
                  <a:solidFill>
                    <a:srgbClr val="000000"/>
                  </a:solidFill>
                  <a:latin typeface="Arial"/>
                </a:endParaRPr>
              </a:p>
            </p:txBody>
          </p:sp>
          <p:sp>
            <p:nvSpPr>
              <p:cNvPr id="1125" name=""/>
              <p:cNvSpPr/>
              <p:nvPr/>
            </p:nvSpPr>
            <p:spPr>
              <a:xfrm>
                <a:off x="6692760" y="2499840"/>
                <a:ext cx="974880" cy="49644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STIÓN GARANTÍAS E INCIDENCIAS</a:t>
                </a:r>
                <a:endParaRPr b="0" lang="en-US" sz="900" spc="-1" strike="noStrike">
                  <a:solidFill>
                    <a:srgbClr val="000000"/>
                  </a:solidFill>
                  <a:latin typeface="Arial"/>
                </a:endParaRPr>
              </a:p>
            </p:txBody>
          </p:sp>
          <p:sp>
            <p:nvSpPr>
              <p:cNvPr id="1126" name=""/>
              <p:cNvSpPr/>
              <p:nvPr/>
            </p:nvSpPr>
            <p:spPr>
              <a:xfrm>
                <a:off x="501480" y="2499840"/>
                <a:ext cx="901800" cy="496440"/>
              </a:xfrm>
              <a:prstGeom prst="roundRect">
                <a:avLst>
                  <a:gd name="adj" fmla="val 16667"/>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a:off x="7740720" y="2509200"/>
                <a:ext cx="903240" cy="487080"/>
              </a:xfrm>
              <a:prstGeom prst="roundRect">
                <a:avLst>
                  <a:gd name="adj" fmla="val 16667"/>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7667640" y="2636280"/>
                <a:ext cx="1403280" cy="16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ACTURACIÓN</a:t>
                </a:r>
                <a:endParaRPr b="0" lang="en-US" sz="900" spc="-1" strike="noStrike">
                  <a:solidFill>
                    <a:srgbClr val="000000"/>
                  </a:solidFill>
                  <a:latin typeface="Arial"/>
                </a:endParaRPr>
              </a:p>
            </p:txBody>
          </p:sp>
          <p:sp>
            <p:nvSpPr>
              <p:cNvPr id="1129" name=""/>
              <p:cNvSpPr/>
              <p:nvPr/>
            </p:nvSpPr>
            <p:spPr>
              <a:xfrm>
                <a:off x="395280" y="2565000"/>
                <a:ext cx="1077840" cy="43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LICITUD D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UPUESTO</a:t>
                </a:r>
                <a:endParaRPr b="0" lang="en-US" sz="900" spc="-1" strike="noStrike">
                  <a:solidFill>
                    <a:srgbClr val="000000"/>
                  </a:solidFill>
                  <a:latin typeface="Arial"/>
                </a:endParaRPr>
              </a:p>
            </p:txBody>
          </p:sp>
        </p:grpSp>
      </p:grpSp>
      <p:cxnSp>
        <p:nvCxnSpPr>
          <p:cNvPr id="1130" name=""/>
          <p:cNvCxnSpPr/>
          <p:nvPr/>
        </p:nvCxnSpPr>
        <p:spPr>
          <a:xfrm flipH="1">
            <a:off x="684360" y="2133720"/>
            <a:ext cx="993960" cy="10080"/>
          </a:xfrm>
          <a:prstGeom prst="straightConnector1">
            <a:avLst/>
          </a:prstGeom>
          <a:ln w="12600">
            <a:solidFill>
              <a:srgbClr val="008000"/>
            </a:solidFill>
            <a:prstDash val="dash"/>
            <a:miter/>
          </a:ln>
        </p:spPr>
      </p:cxnSp>
      <p:grpSp>
        <p:nvGrpSpPr>
          <p:cNvPr id="1131" name=""/>
          <p:cNvGrpSpPr/>
          <p:nvPr/>
        </p:nvGrpSpPr>
        <p:grpSpPr>
          <a:xfrm>
            <a:off x="1332000" y="333360"/>
            <a:ext cx="5904000" cy="934920"/>
            <a:chOff x="1332000" y="333360"/>
            <a:chExt cx="5904000" cy="934920"/>
          </a:xfrm>
        </p:grpSpPr>
        <p:sp>
          <p:nvSpPr>
            <p:cNvPr id="1132" name=""/>
            <p:cNvSpPr/>
            <p:nvPr/>
          </p:nvSpPr>
          <p:spPr>
            <a:xfrm>
              <a:off x="1332000" y="333360"/>
              <a:ext cx="5904000" cy="934920"/>
            </a:xfrm>
            <a:prstGeom prst="rect">
              <a:avLst/>
            </a:prstGeom>
            <a:solidFill>
              <a:srgbClr val="ffff99"/>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1778400" y="574560"/>
              <a:ext cx="764280" cy="3895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1875240" y="676080"/>
              <a:ext cx="772920" cy="36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ROL</a:t>
              </a:r>
              <a:endParaRPr b="0" lang="en-US" sz="900" spc="-1" strike="noStrike">
                <a:solidFill>
                  <a:srgbClr val="000000"/>
                </a:solidFill>
                <a:latin typeface="Arial"/>
              </a:endParaRPr>
            </a:p>
          </p:txBody>
        </p:sp>
        <p:sp>
          <p:nvSpPr>
            <p:cNvPr id="1135" name=""/>
            <p:cNvSpPr/>
            <p:nvPr/>
          </p:nvSpPr>
          <p:spPr>
            <a:xfrm>
              <a:off x="2920320" y="512640"/>
              <a:ext cx="1098360" cy="5371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3008520" y="676080"/>
              <a:ext cx="992520" cy="36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ERIFICACIÓN NIVEL</a:t>
              </a:r>
              <a:endParaRPr b="0" lang="en-US" sz="900" spc="-1" strike="noStrike">
                <a:solidFill>
                  <a:srgbClr val="000000"/>
                </a:solidFill>
                <a:latin typeface="Arial"/>
              </a:endParaRPr>
            </a:p>
          </p:txBody>
        </p:sp>
        <p:sp>
          <p:nvSpPr>
            <p:cNvPr id="1137" name=""/>
            <p:cNvSpPr/>
            <p:nvPr/>
          </p:nvSpPr>
          <p:spPr>
            <a:xfrm>
              <a:off x="4255920" y="559080"/>
              <a:ext cx="1089360" cy="4831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4378680" y="691560"/>
              <a:ext cx="896040" cy="38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MACIÓN</a:t>
              </a:r>
              <a:endParaRPr b="0" lang="en-US" sz="900" spc="-1" strike="noStrike">
                <a:solidFill>
                  <a:srgbClr val="000000"/>
                </a:solidFill>
                <a:latin typeface="Arial"/>
              </a:endParaRPr>
            </a:p>
          </p:txBody>
        </p:sp>
        <p:sp>
          <p:nvSpPr>
            <p:cNvPr id="1139" name=""/>
            <p:cNvSpPr/>
            <p:nvPr/>
          </p:nvSpPr>
          <p:spPr>
            <a:xfrm>
              <a:off x="5653080" y="543600"/>
              <a:ext cx="1107000" cy="5533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5582520" y="652680"/>
              <a:ext cx="1210680" cy="38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TENIMIENTO Y CONTROL VEHICULOS</a:t>
              </a:r>
              <a:endParaRPr b="0" lang="en-US" sz="900" spc="-1" strike="noStrike">
                <a:solidFill>
                  <a:srgbClr val="000000"/>
                </a:solidFill>
                <a:latin typeface="Arial"/>
              </a:endParaRPr>
            </a:p>
          </p:txBody>
        </p:sp>
      </p:grpSp>
      <p:grpSp>
        <p:nvGrpSpPr>
          <p:cNvPr id="1141" name=""/>
          <p:cNvGrpSpPr/>
          <p:nvPr/>
        </p:nvGrpSpPr>
        <p:grpSpPr>
          <a:xfrm>
            <a:off x="517680" y="1341360"/>
            <a:ext cx="7870680" cy="604800"/>
            <a:chOff x="517680" y="1341360"/>
            <a:chExt cx="7870680" cy="604800"/>
          </a:xfrm>
        </p:grpSpPr>
        <p:sp>
          <p:nvSpPr>
            <p:cNvPr id="1142" name=""/>
            <p:cNvSpPr/>
            <p:nvPr/>
          </p:nvSpPr>
          <p:spPr>
            <a:xfrm>
              <a:off x="2604960" y="1349280"/>
              <a:ext cx="1008360" cy="5382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1596960" y="1341360"/>
              <a:ext cx="1008000" cy="5238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2533680" y="1446120"/>
              <a:ext cx="1116000" cy="41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VALUACIÓN PROVEEDORES</a:t>
              </a:r>
              <a:endParaRPr b="0" lang="en-US" sz="900" spc="-1" strike="noStrike">
                <a:solidFill>
                  <a:srgbClr val="000000"/>
                </a:solidFill>
                <a:latin typeface="Arial"/>
              </a:endParaRPr>
            </a:p>
          </p:txBody>
        </p:sp>
        <p:sp>
          <p:nvSpPr>
            <p:cNvPr id="1145" name=""/>
            <p:cNvSpPr/>
            <p:nvPr/>
          </p:nvSpPr>
          <p:spPr>
            <a:xfrm>
              <a:off x="588960" y="1376280"/>
              <a:ext cx="1008000" cy="50148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517680" y="1482480"/>
              <a:ext cx="115236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RATACIÓN</a:t>
              </a:r>
              <a:endParaRPr b="0" lang="en-US" sz="900" spc="-1" strike="noStrike">
                <a:solidFill>
                  <a:srgbClr val="000000"/>
                </a:solidFill>
                <a:latin typeface="Arial"/>
              </a:endParaRPr>
            </a:p>
          </p:txBody>
        </p:sp>
        <p:sp>
          <p:nvSpPr>
            <p:cNvPr id="1147" name=""/>
            <p:cNvSpPr/>
            <p:nvPr/>
          </p:nvSpPr>
          <p:spPr>
            <a:xfrm>
              <a:off x="3716280" y="1355400"/>
              <a:ext cx="731880" cy="52236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3686040" y="1482480"/>
              <a:ext cx="8146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RAS</a:t>
              </a:r>
              <a:endParaRPr b="0" lang="en-US" sz="900" spc="-1" strike="noStrike">
                <a:solidFill>
                  <a:srgbClr val="000000"/>
                </a:solidFill>
                <a:latin typeface="Arial"/>
              </a:endParaRPr>
            </a:p>
          </p:txBody>
        </p:sp>
        <p:sp>
          <p:nvSpPr>
            <p:cNvPr id="1149" name=""/>
            <p:cNvSpPr/>
            <p:nvPr/>
          </p:nvSpPr>
          <p:spPr>
            <a:xfrm>
              <a:off x="1525680" y="1433160"/>
              <a:ext cx="115092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ANIFICACIÓN OBRAS</a:t>
              </a:r>
              <a:endParaRPr b="0" lang="en-US" sz="900" spc="-1" strike="noStrike">
                <a:solidFill>
                  <a:srgbClr val="000000"/>
                </a:solidFill>
                <a:latin typeface="Arial"/>
              </a:endParaRPr>
            </a:p>
          </p:txBody>
        </p:sp>
        <p:sp>
          <p:nvSpPr>
            <p:cNvPr id="1150" name=""/>
            <p:cNvSpPr/>
            <p:nvPr/>
          </p:nvSpPr>
          <p:spPr>
            <a:xfrm>
              <a:off x="6566040" y="1374480"/>
              <a:ext cx="949320" cy="5382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5629320" y="1374480"/>
              <a:ext cx="947520" cy="57168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6637320" y="1376280"/>
              <a:ext cx="814320" cy="43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STIÓN  COBROS Y PAGOS</a:t>
              </a:r>
              <a:endParaRPr b="0" lang="en-US" sz="900" spc="-1" strike="noStrike">
                <a:solidFill>
                  <a:srgbClr val="000000"/>
                </a:solidFill>
                <a:latin typeface="Arial"/>
              </a:endParaRPr>
            </a:p>
          </p:txBody>
        </p:sp>
        <p:sp>
          <p:nvSpPr>
            <p:cNvPr id="1153" name=""/>
            <p:cNvSpPr/>
            <p:nvPr/>
          </p:nvSpPr>
          <p:spPr>
            <a:xfrm>
              <a:off x="4549680" y="1361880"/>
              <a:ext cx="1079640" cy="51588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4549680" y="1400040"/>
              <a:ext cx="1081080" cy="47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JECUCIÓN Y CONTROL OBRAS</a:t>
              </a:r>
              <a:endParaRPr b="0" lang="en-US" sz="900" spc="-1" strike="noStrike">
                <a:solidFill>
                  <a:srgbClr val="000000"/>
                </a:solidFill>
                <a:latin typeface="Arial"/>
              </a:endParaRPr>
            </a:p>
          </p:txBody>
        </p:sp>
        <p:sp>
          <p:nvSpPr>
            <p:cNvPr id="1155" name=""/>
            <p:cNvSpPr/>
            <p:nvPr/>
          </p:nvSpPr>
          <p:spPr>
            <a:xfrm>
              <a:off x="7604280" y="1357200"/>
              <a:ext cx="731520" cy="52056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7574040" y="1411200"/>
              <a:ext cx="81432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ROL FIANZAS</a:t>
              </a:r>
              <a:endParaRPr b="0" lang="en-US" sz="900" spc="-1" strike="noStrike">
                <a:solidFill>
                  <a:srgbClr val="000000"/>
                </a:solidFill>
                <a:latin typeface="Arial"/>
              </a:endParaRPr>
            </a:p>
          </p:txBody>
        </p:sp>
        <p:sp>
          <p:nvSpPr>
            <p:cNvPr id="1157" name=""/>
            <p:cNvSpPr/>
            <p:nvPr/>
          </p:nvSpPr>
          <p:spPr>
            <a:xfrm>
              <a:off x="5557680" y="1446120"/>
              <a:ext cx="108108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I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OST-VENTA</a:t>
              </a:r>
              <a:endParaRPr b="0" lang="en-US" sz="900" spc="-1" strike="noStrike">
                <a:solidFill>
                  <a:srgbClr val="000000"/>
                </a:solidFill>
                <a:latin typeface="Arial"/>
              </a:endParaRPr>
            </a:p>
          </p:txBody>
        </p:sp>
      </p:grpSp>
      <p:cxnSp>
        <p:nvCxnSpPr>
          <p:cNvPr id="1158" name=""/>
          <p:cNvCxnSpPr/>
          <p:nvPr/>
        </p:nvCxnSpPr>
        <p:spPr>
          <a:xfrm flipV="1">
            <a:off x="1042560" y="1878120"/>
            <a:ext cx="1080" cy="255960"/>
          </a:xfrm>
          <a:prstGeom prst="straightConnector1">
            <a:avLst/>
          </a:prstGeom>
          <a:ln w="12600">
            <a:solidFill>
              <a:srgbClr val="008000"/>
            </a:solidFill>
            <a:prstDash val="dash"/>
            <a:miter/>
            <a:tailEnd len="med" type="triangle" w="med"/>
          </a:ln>
        </p:spPr>
      </p:cxnSp>
      <p:cxnSp>
        <p:nvCxnSpPr>
          <p:cNvPr id="1159" name=""/>
          <p:cNvCxnSpPr/>
          <p:nvPr/>
        </p:nvCxnSpPr>
        <p:spPr>
          <a:xfrm>
            <a:off x="2910960" y="2133360"/>
            <a:ext cx="1156680" cy="1080"/>
          </a:xfrm>
          <a:prstGeom prst="curvedConnector2">
            <a:avLst/>
          </a:prstGeom>
          <a:ln w="12600">
            <a:solidFill>
              <a:srgbClr val="008000"/>
            </a:solidFill>
            <a:prstDash val="dash"/>
            <a:miter/>
          </a:ln>
        </p:spPr>
      </p:cxnSp>
      <p:cxnSp>
        <p:nvCxnSpPr>
          <p:cNvPr id="1160" name=""/>
          <p:cNvCxnSpPr>
            <a:endCxn id="1149" idx="2"/>
          </p:cNvCxnSpPr>
          <p:nvPr/>
        </p:nvCxnSpPr>
        <p:spPr>
          <a:xfrm rot="10800000">
            <a:off x="2100960" y="1820160"/>
            <a:ext cx="1008720" cy="313560"/>
          </a:xfrm>
          <a:prstGeom prst="bentConnector2">
            <a:avLst/>
          </a:prstGeom>
          <a:ln w="12600">
            <a:solidFill>
              <a:srgbClr val="008000"/>
            </a:solidFill>
            <a:prstDash val="dash"/>
            <a:miter/>
            <a:tailEnd len="med" type="triangle" w="med"/>
          </a:ln>
        </p:spPr>
      </p:cxnSp>
      <p:cxnSp>
        <p:nvCxnSpPr>
          <p:cNvPr id="1161" name=""/>
          <p:cNvCxnSpPr>
            <a:endCxn id="1148" idx="2"/>
          </p:cNvCxnSpPr>
          <p:nvPr/>
        </p:nvCxnSpPr>
        <p:spPr>
          <a:xfrm flipH="1" flipV="1">
            <a:off x="4093920" y="1878120"/>
            <a:ext cx="24480" cy="255960"/>
          </a:xfrm>
          <a:prstGeom prst="straightConnector1">
            <a:avLst/>
          </a:prstGeom>
          <a:ln w="12600">
            <a:solidFill>
              <a:srgbClr val="008000"/>
            </a:solidFill>
            <a:prstDash val="dash"/>
            <a:miter/>
            <a:tailEnd len="med" type="triangle" w="med"/>
          </a:ln>
        </p:spPr>
      </p:cxnSp>
      <p:cxnSp>
        <p:nvCxnSpPr>
          <p:cNvPr id="1162" name=""/>
          <p:cNvCxnSpPr>
            <a:endCxn id="1142" idx="4"/>
          </p:cNvCxnSpPr>
          <p:nvPr/>
        </p:nvCxnSpPr>
        <p:spPr>
          <a:xfrm flipV="1" rot="16200000">
            <a:off x="3080880" y="1915560"/>
            <a:ext cx="248400" cy="191160"/>
          </a:xfrm>
          <a:prstGeom prst="bentConnector3">
            <a:avLst>
              <a:gd name="adj1" fmla="val 49927"/>
            </a:avLst>
          </a:prstGeom>
          <a:ln w="12600">
            <a:solidFill>
              <a:srgbClr val="008000"/>
            </a:solidFill>
            <a:prstDash val="dash"/>
            <a:miter/>
            <a:tailEnd len="med" type="triangle" w="med"/>
          </a:ln>
        </p:spPr>
      </p:cxnSp>
      <p:cxnSp>
        <p:nvCxnSpPr>
          <p:cNvPr id="1163" name=""/>
          <p:cNvCxnSpPr/>
          <p:nvPr/>
        </p:nvCxnSpPr>
        <p:spPr>
          <a:xfrm rot="10800000">
            <a:off x="4787280" y="2133000"/>
            <a:ext cx="864360" cy="1080"/>
          </a:xfrm>
          <a:prstGeom prst="curvedConnector2">
            <a:avLst/>
          </a:prstGeom>
          <a:ln w="12600">
            <a:solidFill>
              <a:srgbClr val="008000"/>
            </a:solidFill>
            <a:prstDash val="dash"/>
            <a:miter/>
          </a:ln>
        </p:spPr>
      </p:cxnSp>
      <p:cxnSp>
        <p:nvCxnSpPr>
          <p:cNvPr id="1164" name=""/>
          <p:cNvCxnSpPr>
            <a:endCxn id="1154" idx="2"/>
          </p:cNvCxnSpPr>
          <p:nvPr/>
        </p:nvCxnSpPr>
        <p:spPr>
          <a:xfrm flipH="1" flipV="1" rot="5400000">
            <a:off x="4948200" y="2004480"/>
            <a:ext cx="276840" cy="10080"/>
          </a:xfrm>
          <a:prstGeom prst="curvedConnector5">
            <a:avLst>
              <a:gd name="adj1" fmla="val 48177"/>
              <a:gd name="adj2" fmla="val 48148"/>
              <a:gd name="adj3" fmla="val 48177"/>
            </a:avLst>
          </a:prstGeom>
          <a:ln w="12600">
            <a:solidFill>
              <a:srgbClr val="008000"/>
            </a:solidFill>
            <a:prstDash val="dash"/>
            <a:miter/>
            <a:tailEnd len="med" type="triangle" w="med"/>
          </a:ln>
        </p:spPr>
      </p:cxnSp>
      <p:cxnSp>
        <p:nvCxnSpPr>
          <p:cNvPr id="1165" name=""/>
          <p:cNvCxnSpPr>
            <a:stCxn id="1125" idx="0"/>
            <a:endCxn id="1151" idx="4"/>
          </p:cNvCxnSpPr>
          <p:nvPr/>
        </p:nvCxnSpPr>
        <p:spPr>
          <a:xfrm flipV="1" rot="16200000">
            <a:off x="6364440" y="1684080"/>
            <a:ext cx="554760" cy="1077120"/>
          </a:xfrm>
          <a:prstGeom prst="curvedConnector5">
            <a:avLst>
              <a:gd name="adj1" fmla="val 49805"/>
              <a:gd name="adj2" fmla="val 49983"/>
              <a:gd name="adj3" fmla="val 49805"/>
            </a:avLst>
          </a:prstGeom>
          <a:ln w="12600">
            <a:solidFill>
              <a:srgbClr val="008000"/>
            </a:solidFill>
            <a:prstDash val="dash"/>
            <a:miter/>
            <a:tailEnd len="med" type="triangle" w="med"/>
          </a:ln>
        </p:spPr>
      </p:cxnSp>
      <p:cxnSp>
        <p:nvCxnSpPr>
          <p:cNvPr id="1166" name=""/>
          <p:cNvCxnSpPr>
            <a:endCxn id="1150" idx="4"/>
          </p:cNvCxnSpPr>
          <p:nvPr/>
        </p:nvCxnSpPr>
        <p:spPr>
          <a:xfrm rot="10800000">
            <a:off x="7040520" y="1912320"/>
            <a:ext cx="1038600" cy="221400"/>
          </a:xfrm>
          <a:prstGeom prst="bentConnector2">
            <a:avLst/>
          </a:prstGeom>
          <a:ln w="12600">
            <a:solidFill>
              <a:srgbClr val="008000"/>
            </a:solidFill>
            <a:prstDash val="dash"/>
            <a:miter/>
            <a:tailEnd len="med" type="triangle" w="med"/>
          </a:ln>
        </p:spPr>
      </p:cxnSp>
      <p:cxnSp>
        <p:nvCxnSpPr>
          <p:cNvPr id="1167" name=""/>
          <p:cNvCxnSpPr>
            <a:endCxn id="1155" idx="4"/>
          </p:cNvCxnSpPr>
          <p:nvPr/>
        </p:nvCxnSpPr>
        <p:spPr>
          <a:xfrm flipV="1">
            <a:off x="7957800" y="1877400"/>
            <a:ext cx="13320" cy="222840"/>
          </a:xfrm>
          <a:prstGeom prst="straightConnector1">
            <a:avLst/>
          </a:prstGeom>
          <a:ln w="12600">
            <a:solidFill>
              <a:srgbClr val="008000"/>
            </a:solidFill>
            <a:prstDash val="dash"/>
            <a:miter/>
            <a:tailEnd len="med" type="triangle" w="med"/>
          </a:ln>
        </p:spPr>
      </p:cxnSp>
      <p:sp>
        <p:nvSpPr>
          <p:cNvPr id="1168" name=""/>
          <p:cNvSpPr/>
          <p:nvPr/>
        </p:nvSpPr>
        <p:spPr>
          <a:xfrm>
            <a:off x="6469200" y="3357720"/>
            <a:ext cx="1271520" cy="7207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6448320" y="3430440"/>
            <a:ext cx="12924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ROL CONTRATOS Y SUMINISTROS</a:t>
            </a:r>
            <a:endParaRPr b="0" lang="en-US" sz="900" spc="-1" strike="noStrike">
              <a:solidFill>
                <a:srgbClr val="000000"/>
              </a:solidFill>
              <a:latin typeface="Arial"/>
            </a:endParaRPr>
          </a:p>
        </p:txBody>
      </p:sp>
      <p:sp>
        <p:nvSpPr>
          <p:cNvPr id="1170" name=""/>
          <p:cNvSpPr/>
          <p:nvPr/>
        </p:nvSpPr>
        <p:spPr>
          <a:xfrm>
            <a:off x="5221440" y="3430440"/>
            <a:ext cx="863280" cy="4860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5148360" y="3462480"/>
            <a:ext cx="1019160" cy="47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CHIVO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CUMENT.</a:t>
            </a:r>
            <a:endParaRPr b="0" lang="en-US" sz="900" spc="-1" strike="noStrike">
              <a:solidFill>
                <a:srgbClr val="000000"/>
              </a:solidFill>
              <a:latin typeface="Arial"/>
            </a:endParaRPr>
          </a:p>
        </p:txBody>
      </p:sp>
      <p:sp>
        <p:nvSpPr>
          <p:cNvPr id="1172" name=""/>
          <p:cNvSpPr/>
          <p:nvPr/>
        </p:nvSpPr>
        <p:spPr>
          <a:xfrm>
            <a:off x="4010040" y="3444840"/>
            <a:ext cx="820800" cy="560520"/>
          </a:xfrm>
          <a:prstGeom prst="roundRect">
            <a:avLst>
              <a:gd name="adj" fmla="val 16667"/>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3924360" y="3460680"/>
            <a:ext cx="946080" cy="4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GRAMA PUNTOS INSPECCIÓN</a:t>
            </a:r>
            <a:endParaRPr b="0" lang="en-US" sz="900" spc="-1" strike="noStrike">
              <a:solidFill>
                <a:srgbClr val="000000"/>
              </a:solidFill>
              <a:latin typeface="Arial"/>
            </a:endParaRPr>
          </a:p>
        </p:txBody>
      </p:sp>
      <p:sp>
        <p:nvSpPr>
          <p:cNvPr id="1174" name=""/>
          <p:cNvSpPr/>
          <p:nvPr/>
        </p:nvSpPr>
        <p:spPr>
          <a:xfrm>
            <a:off x="1042920" y="3429000"/>
            <a:ext cx="1050840" cy="57636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1085760" y="3573360"/>
            <a:ext cx="1057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TACIÓN DE TRABAJOS</a:t>
            </a:r>
            <a:endParaRPr b="0" lang="en-US" sz="900" spc="-1" strike="noStrike">
              <a:solidFill>
                <a:srgbClr val="000000"/>
              </a:solidFill>
              <a:latin typeface="Arial"/>
            </a:endParaRPr>
          </a:p>
        </p:txBody>
      </p:sp>
      <p:sp>
        <p:nvSpPr>
          <p:cNvPr id="1176" name=""/>
          <p:cNvSpPr/>
          <p:nvPr/>
        </p:nvSpPr>
        <p:spPr>
          <a:xfrm>
            <a:off x="2627280" y="3456000"/>
            <a:ext cx="889200" cy="62064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2671920" y="3479760"/>
            <a:ext cx="7729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STIÓN DE PARTES</a:t>
            </a:r>
            <a:endParaRPr b="0" lang="en-US" sz="900" spc="-1" strike="noStrike">
              <a:solidFill>
                <a:srgbClr val="000000"/>
              </a:solidFill>
              <a:latin typeface="Arial"/>
            </a:endParaRPr>
          </a:p>
        </p:txBody>
      </p:sp>
      <p:grpSp>
        <p:nvGrpSpPr>
          <p:cNvPr id="1178" name=""/>
          <p:cNvGrpSpPr/>
          <p:nvPr/>
        </p:nvGrpSpPr>
        <p:grpSpPr>
          <a:xfrm>
            <a:off x="1063800" y="4149720"/>
            <a:ext cx="7037280" cy="936720"/>
            <a:chOff x="1063800" y="4149720"/>
            <a:chExt cx="7037280" cy="936720"/>
          </a:xfrm>
        </p:grpSpPr>
        <p:sp>
          <p:nvSpPr>
            <p:cNvPr id="1179" name=""/>
            <p:cNvSpPr/>
            <p:nvPr/>
          </p:nvSpPr>
          <p:spPr>
            <a:xfrm>
              <a:off x="1063800" y="4149720"/>
              <a:ext cx="7037280" cy="936720"/>
            </a:xfrm>
            <a:prstGeom prst="rect">
              <a:avLst/>
            </a:prstGeom>
            <a:solidFill>
              <a:srgbClr val="ffff99"/>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0" name=""/>
            <p:cNvGrpSpPr/>
            <p:nvPr/>
          </p:nvGrpSpPr>
          <p:grpSpPr>
            <a:xfrm>
              <a:off x="1332000" y="4294080"/>
              <a:ext cx="6408720" cy="609480"/>
              <a:chOff x="1332000" y="4294080"/>
              <a:chExt cx="6408720" cy="609480"/>
            </a:xfrm>
          </p:grpSpPr>
          <p:sp>
            <p:nvSpPr>
              <p:cNvPr id="1181" name=""/>
              <p:cNvSpPr/>
              <p:nvPr/>
            </p:nvSpPr>
            <p:spPr>
              <a:xfrm>
                <a:off x="1332000" y="4360680"/>
                <a:ext cx="969840" cy="46692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UDITORIAS INTERNAS</a:t>
                </a:r>
                <a:endParaRPr b="0" lang="en-US" sz="900" spc="-1" strike="noStrike">
                  <a:solidFill>
                    <a:srgbClr val="000000"/>
                  </a:solidFill>
                  <a:latin typeface="Arial"/>
                </a:endParaRPr>
              </a:p>
            </p:txBody>
          </p:sp>
          <p:sp>
            <p:nvSpPr>
              <p:cNvPr id="1182" name=""/>
              <p:cNvSpPr/>
              <p:nvPr/>
            </p:nvSpPr>
            <p:spPr>
              <a:xfrm>
                <a:off x="2482920" y="4360680"/>
                <a:ext cx="1219320" cy="46692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 CONFORMIDADES</a:t>
                </a:r>
                <a:endParaRPr b="0" lang="en-US" sz="900" spc="-1" strike="noStrike">
                  <a:solidFill>
                    <a:srgbClr val="000000"/>
                  </a:solidFill>
                  <a:latin typeface="Arial"/>
                </a:endParaRPr>
              </a:p>
            </p:txBody>
          </p:sp>
          <p:sp>
            <p:nvSpPr>
              <p:cNvPr id="1183" name=""/>
              <p:cNvSpPr/>
              <p:nvPr/>
            </p:nvSpPr>
            <p:spPr>
              <a:xfrm>
                <a:off x="3924360" y="4294080"/>
                <a:ext cx="1152360" cy="6094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CIONES CORRECTIVAS PREVENTIVAS</a:t>
                </a:r>
                <a:endParaRPr b="0" lang="en-US" sz="900" spc="-1" strike="noStrike">
                  <a:solidFill>
                    <a:srgbClr val="000000"/>
                  </a:solidFill>
                  <a:latin typeface="Arial"/>
                </a:endParaRPr>
              </a:p>
            </p:txBody>
          </p:sp>
          <p:sp>
            <p:nvSpPr>
              <p:cNvPr id="1184" name=""/>
              <p:cNvSpPr/>
              <p:nvPr/>
            </p:nvSpPr>
            <p:spPr>
              <a:xfrm>
                <a:off x="5216760" y="4370400"/>
                <a:ext cx="1056960" cy="4474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CLAMACIONES DE CLIENTE</a:t>
                </a:r>
                <a:endParaRPr b="0" lang="en-US" sz="900" spc="-1" strike="noStrike">
                  <a:solidFill>
                    <a:srgbClr val="000000"/>
                  </a:solidFill>
                  <a:latin typeface="Arial"/>
                </a:endParaRPr>
              </a:p>
            </p:txBody>
          </p:sp>
          <p:sp>
            <p:nvSpPr>
              <p:cNvPr id="1185" name=""/>
              <p:cNvSpPr/>
              <p:nvPr/>
            </p:nvSpPr>
            <p:spPr>
              <a:xfrm>
                <a:off x="6588360" y="4389120"/>
                <a:ext cx="1152360" cy="41940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ISFACCIÓN CLIENTES</a:t>
                </a:r>
                <a:endParaRPr b="0" lang="en-US" sz="900" spc="-1" strike="noStrike">
                  <a:solidFill>
                    <a:srgbClr val="000000"/>
                  </a:solidFill>
                  <a:latin typeface="Arial"/>
                </a:endParaRPr>
              </a:p>
            </p:txBody>
          </p:sp>
        </p:grpSp>
      </p:grpSp>
      <p:cxnSp>
        <p:nvCxnSpPr>
          <p:cNvPr id="1186" name=""/>
          <p:cNvCxnSpPr>
            <a:stCxn id="1181" idx="3"/>
            <a:endCxn id="1182" idx="1"/>
          </p:cNvCxnSpPr>
          <p:nvPr/>
        </p:nvCxnSpPr>
        <p:spPr>
          <a:xfrm>
            <a:off x="2301480" y="4593960"/>
            <a:ext cx="181800" cy="1080"/>
          </a:xfrm>
          <a:prstGeom prst="straightConnector1">
            <a:avLst/>
          </a:prstGeom>
          <a:ln w="25560">
            <a:solidFill>
              <a:srgbClr val="008000"/>
            </a:solidFill>
            <a:miter/>
          </a:ln>
        </p:spPr>
      </p:cxnSp>
      <p:cxnSp>
        <p:nvCxnSpPr>
          <p:cNvPr id="1187" name=""/>
          <p:cNvCxnSpPr>
            <a:stCxn id="1182" idx="3"/>
            <a:endCxn id="1183" idx="1"/>
          </p:cNvCxnSpPr>
          <p:nvPr/>
        </p:nvCxnSpPr>
        <p:spPr>
          <a:xfrm>
            <a:off x="3701880" y="4593960"/>
            <a:ext cx="223200" cy="5400"/>
          </a:xfrm>
          <a:prstGeom prst="straightConnector1">
            <a:avLst/>
          </a:prstGeom>
          <a:ln w="25560">
            <a:solidFill>
              <a:srgbClr val="008000"/>
            </a:solidFill>
            <a:miter/>
          </a:ln>
        </p:spPr>
      </p:cxnSp>
      <p:cxnSp>
        <p:nvCxnSpPr>
          <p:cNvPr id="1188" name=""/>
          <p:cNvCxnSpPr>
            <a:stCxn id="1183" idx="3"/>
            <a:endCxn id="1184" idx="1"/>
          </p:cNvCxnSpPr>
          <p:nvPr/>
        </p:nvCxnSpPr>
        <p:spPr>
          <a:xfrm flipV="1">
            <a:off x="5076720" y="4593600"/>
            <a:ext cx="140400" cy="5400"/>
          </a:xfrm>
          <a:prstGeom prst="straightConnector1">
            <a:avLst/>
          </a:prstGeom>
          <a:ln w="25560">
            <a:solidFill>
              <a:srgbClr val="008000"/>
            </a:solidFill>
            <a:miter/>
          </a:ln>
        </p:spPr>
      </p:cxnSp>
      <p:cxnSp>
        <p:nvCxnSpPr>
          <p:cNvPr id="1189" name=""/>
          <p:cNvCxnSpPr>
            <a:stCxn id="1184" idx="3"/>
            <a:endCxn id="1185" idx="1"/>
          </p:cNvCxnSpPr>
          <p:nvPr/>
        </p:nvCxnSpPr>
        <p:spPr>
          <a:xfrm>
            <a:off x="6273360" y="4593960"/>
            <a:ext cx="315000" cy="5400"/>
          </a:xfrm>
          <a:prstGeom prst="straightConnector1">
            <a:avLst/>
          </a:prstGeom>
          <a:ln w="25560">
            <a:solidFill>
              <a:srgbClr val="008000"/>
            </a:solidFill>
            <a:miter/>
          </a:ln>
        </p:spPr>
      </p:cxnSp>
      <p:sp>
        <p:nvSpPr>
          <p:cNvPr id="1190" name=""/>
          <p:cNvSpPr/>
          <p:nvPr/>
        </p:nvSpPr>
        <p:spPr>
          <a:xfrm>
            <a:off x="6540480" y="5345280"/>
            <a:ext cx="1200240" cy="67608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6589800" y="5402160"/>
            <a:ext cx="110484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CIÓN SATISFACCIÓN CLIENTES</a:t>
            </a:r>
            <a:endParaRPr b="0" lang="en-US" sz="900" spc="-1" strike="noStrike">
              <a:solidFill>
                <a:srgbClr val="000000"/>
              </a:solidFill>
              <a:latin typeface="Arial"/>
            </a:endParaRPr>
          </a:p>
        </p:txBody>
      </p:sp>
      <p:sp>
        <p:nvSpPr>
          <p:cNvPr id="1192" name=""/>
          <p:cNvSpPr/>
          <p:nvPr/>
        </p:nvSpPr>
        <p:spPr>
          <a:xfrm>
            <a:off x="2130480" y="5388120"/>
            <a:ext cx="1123920" cy="55224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2216160" y="5516640"/>
            <a:ext cx="94284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UDITORIAS INTERNAS</a:t>
            </a:r>
            <a:endParaRPr b="0" lang="en-US" sz="900" spc="-1" strike="noStrike">
              <a:solidFill>
                <a:srgbClr val="000000"/>
              </a:solidFill>
              <a:latin typeface="Arial"/>
            </a:endParaRPr>
          </a:p>
        </p:txBody>
      </p:sp>
      <p:sp>
        <p:nvSpPr>
          <p:cNvPr id="1194" name=""/>
          <p:cNvSpPr/>
          <p:nvPr/>
        </p:nvSpPr>
        <p:spPr>
          <a:xfrm>
            <a:off x="492120" y="5373720"/>
            <a:ext cx="1200240" cy="57636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612720" y="5435640"/>
            <a:ext cx="9432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VISIÓN POR LA DIRECCIÓN</a:t>
            </a:r>
            <a:endParaRPr b="0" lang="en-US" sz="900" spc="-1" strike="noStrike">
              <a:solidFill>
                <a:srgbClr val="000000"/>
              </a:solidFill>
              <a:latin typeface="Arial"/>
            </a:endParaRPr>
          </a:p>
        </p:txBody>
      </p:sp>
      <p:sp>
        <p:nvSpPr>
          <p:cNvPr id="1196" name=""/>
          <p:cNvSpPr/>
          <p:nvPr/>
        </p:nvSpPr>
        <p:spPr>
          <a:xfrm>
            <a:off x="4003560" y="5445000"/>
            <a:ext cx="1000080" cy="5335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4013280" y="5578560"/>
            <a:ext cx="94284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AP</a:t>
            </a:r>
            <a:endParaRPr b="0" lang="en-US" sz="900" spc="-1" strike="noStrike">
              <a:solidFill>
                <a:srgbClr val="000000"/>
              </a:solidFill>
              <a:latin typeface="Arial"/>
            </a:endParaRPr>
          </a:p>
        </p:txBody>
      </p:sp>
      <p:cxnSp>
        <p:nvCxnSpPr>
          <p:cNvPr id="1198" name=""/>
          <p:cNvCxnSpPr>
            <a:stCxn id="1185" idx="2"/>
            <a:endCxn id="1190" idx="0"/>
          </p:cNvCxnSpPr>
          <p:nvPr/>
        </p:nvCxnSpPr>
        <p:spPr>
          <a:xfrm flipH="1">
            <a:off x="7140240" y="4808160"/>
            <a:ext cx="24480" cy="537480"/>
          </a:xfrm>
          <a:prstGeom prst="straightConnector1">
            <a:avLst/>
          </a:prstGeom>
          <a:ln w="12600">
            <a:solidFill>
              <a:srgbClr val="008000"/>
            </a:solidFill>
            <a:prstDash val="dash"/>
            <a:miter/>
            <a:tailEnd len="med" type="triangle" w="med"/>
          </a:ln>
        </p:spPr>
      </p:cxnSp>
      <p:cxnSp>
        <p:nvCxnSpPr>
          <p:cNvPr id="1199" name=""/>
          <p:cNvCxnSpPr/>
          <p:nvPr/>
        </p:nvCxnSpPr>
        <p:spPr>
          <a:xfrm flipH="1">
            <a:off x="3058920" y="4806720"/>
            <a:ext cx="10080" cy="423000"/>
          </a:xfrm>
          <a:prstGeom prst="straightConnector1">
            <a:avLst/>
          </a:prstGeom>
          <a:ln w="12600">
            <a:solidFill>
              <a:srgbClr val="008000"/>
            </a:solidFill>
            <a:prstDash val="dash"/>
            <a:miter/>
          </a:ln>
        </p:spPr>
      </p:cxnSp>
      <p:cxnSp>
        <p:nvCxnSpPr>
          <p:cNvPr id="1200" name=""/>
          <p:cNvCxnSpPr/>
          <p:nvPr/>
        </p:nvCxnSpPr>
        <p:spPr>
          <a:xfrm flipH="1">
            <a:off x="5579280" y="4797360"/>
            <a:ext cx="3960" cy="504000"/>
          </a:xfrm>
          <a:prstGeom prst="straightConnector1">
            <a:avLst/>
          </a:prstGeom>
          <a:ln w="12600">
            <a:solidFill>
              <a:srgbClr val="008000"/>
            </a:solidFill>
            <a:prstDash val="dash"/>
            <a:miter/>
          </a:ln>
        </p:spPr>
      </p:cxnSp>
      <p:cxnSp>
        <p:nvCxnSpPr>
          <p:cNvPr id="1201" name=""/>
          <p:cNvCxnSpPr/>
          <p:nvPr/>
        </p:nvCxnSpPr>
        <p:spPr>
          <a:xfrm>
            <a:off x="3058920" y="5229360"/>
            <a:ext cx="2515320" cy="10080"/>
          </a:xfrm>
          <a:prstGeom prst="straightConnector1">
            <a:avLst/>
          </a:prstGeom>
          <a:ln w="12600">
            <a:solidFill>
              <a:srgbClr val="008000"/>
            </a:solidFill>
            <a:prstDash val="dash"/>
            <a:miter/>
          </a:ln>
        </p:spPr>
      </p:cxnSp>
      <p:cxnSp>
        <p:nvCxnSpPr>
          <p:cNvPr id="1202" name=""/>
          <p:cNvCxnSpPr>
            <a:stCxn id="1181" idx="2"/>
            <a:endCxn id="1192" idx="0"/>
          </p:cNvCxnSpPr>
          <p:nvPr/>
        </p:nvCxnSpPr>
        <p:spPr>
          <a:xfrm flipH="1" rot="16200000">
            <a:off x="1974600" y="4669920"/>
            <a:ext cx="561240" cy="875520"/>
          </a:xfrm>
          <a:prstGeom prst="bentConnector3">
            <a:avLst>
              <a:gd name="adj1" fmla="val 49807"/>
            </a:avLst>
          </a:prstGeom>
          <a:ln w="12600">
            <a:solidFill>
              <a:srgbClr val="008000"/>
            </a:solidFill>
            <a:prstDash val="dash"/>
            <a:miter/>
            <a:tailEnd len="med" type="triangle" w="med"/>
          </a:ln>
        </p:spPr>
      </p:cxnSp>
      <p:cxnSp>
        <p:nvCxnSpPr>
          <p:cNvPr id="1203" name=""/>
          <p:cNvCxnSpPr>
            <a:stCxn id="1194" idx="6"/>
            <a:endCxn id="1192" idx="2"/>
          </p:cNvCxnSpPr>
          <p:nvPr/>
        </p:nvCxnSpPr>
        <p:spPr>
          <a:xfrm>
            <a:off x="1692000" y="5662080"/>
            <a:ext cx="438840" cy="2520"/>
          </a:xfrm>
          <a:prstGeom prst="straightConnector1">
            <a:avLst/>
          </a:prstGeom>
          <a:ln w="12600">
            <a:solidFill>
              <a:srgbClr val="008000"/>
            </a:solidFill>
            <a:prstDash val="dash"/>
            <a:miter/>
          </a:ln>
        </p:spPr>
      </p:cxnSp>
      <p:cxnSp>
        <p:nvCxnSpPr>
          <p:cNvPr id="1204" name=""/>
          <p:cNvCxnSpPr>
            <a:stCxn id="1183" idx="2"/>
            <a:endCxn id="1196" idx="0"/>
          </p:cNvCxnSpPr>
          <p:nvPr/>
        </p:nvCxnSpPr>
        <p:spPr>
          <a:xfrm>
            <a:off x="4500720" y="4903560"/>
            <a:ext cx="3600" cy="541800"/>
          </a:xfrm>
          <a:prstGeom prst="straightConnector1">
            <a:avLst/>
          </a:prstGeom>
          <a:ln w="12600">
            <a:solidFill>
              <a:srgbClr val="008000"/>
            </a:solidFill>
            <a:prstDash val="dash"/>
            <a:miter/>
            <a:tailEnd len="med" type="triangle" w="med"/>
          </a:ln>
        </p:spPr>
      </p:cxnSp>
      <p:sp>
        <p:nvSpPr>
          <p:cNvPr id="1205" name=""/>
          <p:cNvSpPr/>
          <p:nvPr/>
        </p:nvSpPr>
        <p:spPr>
          <a:xfrm>
            <a:off x="8748720" y="1052640"/>
            <a:ext cx="371520" cy="4105080"/>
          </a:xfrm>
          <a:prstGeom prst="rect">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a:off x="8748720" y="1122480"/>
            <a:ext cx="257040" cy="446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p:txBody>
      </p:sp>
      <p:cxnSp>
        <p:nvCxnSpPr>
          <p:cNvPr id="1207" name=""/>
          <p:cNvCxnSpPr>
            <a:stCxn id="1115" idx="0"/>
            <a:endCxn id="1205" idx="0"/>
          </p:cNvCxnSpPr>
          <p:nvPr/>
        </p:nvCxnSpPr>
        <p:spPr>
          <a:xfrm flipH="1" flipV="1" rot="5400000">
            <a:off x="4540320" y="-3268080"/>
            <a:ext cx="73440" cy="8714160"/>
          </a:xfrm>
          <a:prstGeom prst="bentConnector3">
            <a:avLst>
              <a:gd name="adj1" fmla="val 1423645"/>
            </a:avLst>
          </a:prstGeom>
          <a:ln w="25560">
            <a:solidFill>
              <a:srgbClr val="008000"/>
            </a:solidFill>
            <a:miter/>
          </a:ln>
        </p:spPr>
      </p:cxnSp>
      <p:cxnSp>
        <p:nvCxnSpPr>
          <p:cNvPr id="1208" name=""/>
          <p:cNvCxnSpPr>
            <a:stCxn id="1209" idx="0"/>
            <a:endCxn id="1115" idx="2"/>
          </p:cNvCxnSpPr>
          <p:nvPr/>
        </p:nvCxnSpPr>
        <p:spPr>
          <a:xfrm rot="10800000">
            <a:off x="219960" y="5228640"/>
            <a:ext cx="896040" cy="1167480"/>
          </a:xfrm>
          <a:prstGeom prst="bentConnector2">
            <a:avLst/>
          </a:prstGeom>
          <a:ln w="25560">
            <a:solidFill>
              <a:srgbClr val="008000"/>
            </a:solidFill>
            <a:miter/>
          </a:ln>
        </p:spPr>
      </p:cxnSp>
      <p:cxnSp>
        <p:nvCxnSpPr>
          <p:cNvPr id="1210" name=""/>
          <p:cNvCxnSpPr>
            <a:stCxn id="1209" idx="1"/>
            <a:endCxn id="1205" idx="2"/>
          </p:cNvCxnSpPr>
          <p:nvPr/>
        </p:nvCxnSpPr>
        <p:spPr>
          <a:xfrm flipV="1">
            <a:off x="8459280" y="5157360"/>
            <a:ext cx="475560" cy="1239120"/>
          </a:xfrm>
          <a:prstGeom prst="bentConnector2">
            <a:avLst/>
          </a:prstGeom>
          <a:ln w="25560">
            <a:solidFill>
              <a:srgbClr val="008000"/>
            </a:solidFill>
            <a:miter/>
          </a:ln>
        </p:spPr>
      </p:cxnSp>
      <p:sp>
        <p:nvSpPr>
          <p:cNvPr id="1211" name=""/>
          <p:cNvSpPr/>
          <p:nvPr/>
        </p:nvSpPr>
        <p:spPr>
          <a:xfrm>
            <a:off x="409680" y="1176480"/>
            <a:ext cx="365760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OS OPERATIVOS </a:t>
            </a:r>
            <a:endParaRPr b="0" lang="en-US" sz="1000" spc="-1" strike="noStrike">
              <a:solidFill>
                <a:srgbClr val="000000"/>
              </a:solidFill>
              <a:latin typeface="Arial"/>
            </a:endParaRPr>
          </a:p>
        </p:txBody>
      </p:sp>
      <p:sp>
        <p:nvSpPr>
          <p:cNvPr id="1212" name=""/>
          <p:cNvSpPr/>
          <p:nvPr/>
        </p:nvSpPr>
        <p:spPr>
          <a:xfrm>
            <a:off x="409680" y="95400"/>
            <a:ext cx="365760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OS DE APOYO</a:t>
            </a:r>
            <a:endParaRPr b="0" lang="en-US" sz="1000" spc="-1" strike="noStrike">
              <a:solidFill>
                <a:srgbClr val="000000"/>
              </a:solidFill>
              <a:latin typeface="Arial"/>
            </a:endParaRPr>
          </a:p>
        </p:txBody>
      </p:sp>
      <p:sp>
        <p:nvSpPr>
          <p:cNvPr id="1209" name=""/>
          <p:cNvSpPr/>
          <p:nvPr/>
        </p:nvSpPr>
        <p:spPr>
          <a:xfrm>
            <a:off x="1116000" y="6121440"/>
            <a:ext cx="7343640" cy="547560"/>
          </a:xfrm>
          <a:prstGeom prst="rightArrow">
            <a:avLst>
              <a:gd name="adj1" fmla="val 52750"/>
              <a:gd name="adj2" fmla="val 478656"/>
            </a:avLst>
          </a:prstGeom>
          <a:solidFill>
            <a:srgbClr val="ffff99"/>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p:nvPr/>
        </p:nvSpPr>
        <p:spPr>
          <a:xfrm>
            <a:off x="3400560" y="6308640"/>
            <a:ext cx="7219800" cy="48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REVISIÓN DEL SISTEMA</a:t>
            </a:r>
            <a:endParaRPr b="0" lang="en-US" sz="1200" spc="-1" strike="noStrike">
              <a:solidFill>
                <a:srgbClr val="000000"/>
              </a:solidFill>
              <a:latin typeface="Arial"/>
            </a:endParaRPr>
          </a:p>
        </p:txBody>
      </p:sp>
      <p:cxnSp>
        <p:nvCxnSpPr>
          <p:cNvPr id="1214" name=""/>
          <p:cNvCxnSpPr/>
          <p:nvPr/>
        </p:nvCxnSpPr>
        <p:spPr>
          <a:xfrm flipV="1">
            <a:off x="684000" y="2133720"/>
            <a:ext cx="1080" cy="358920"/>
          </a:xfrm>
          <a:prstGeom prst="curvedConnector2">
            <a:avLst/>
          </a:prstGeom>
          <a:ln w="12600">
            <a:solidFill>
              <a:srgbClr val="008000"/>
            </a:solidFill>
            <a:prstDash val="dash"/>
            <a:miter/>
          </a:ln>
        </p:spPr>
      </p:cxnSp>
      <p:cxnSp>
        <p:nvCxnSpPr>
          <p:cNvPr id="1215" name=""/>
          <p:cNvCxnSpPr/>
          <p:nvPr/>
        </p:nvCxnSpPr>
        <p:spPr>
          <a:xfrm flipV="1">
            <a:off x="1692000" y="2133720"/>
            <a:ext cx="1080" cy="358920"/>
          </a:xfrm>
          <a:prstGeom prst="curvedConnector2">
            <a:avLst/>
          </a:prstGeom>
          <a:ln w="12600">
            <a:solidFill>
              <a:srgbClr val="008000"/>
            </a:solidFill>
            <a:prstDash val="dash"/>
            <a:miter/>
          </a:ln>
        </p:spPr>
      </p:cxnSp>
      <p:cxnSp>
        <p:nvCxnSpPr>
          <p:cNvPr id="1216" name=""/>
          <p:cNvCxnSpPr/>
          <p:nvPr/>
        </p:nvCxnSpPr>
        <p:spPr>
          <a:xfrm flipV="1">
            <a:off x="2916000" y="2133720"/>
            <a:ext cx="1080" cy="358920"/>
          </a:xfrm>
          <a:prstGeom prst="curvedConnector2">
            <a:avLst/>
          </a:prstGeom>
          <a:ln w="12600">
            <a:solidFill>
              <a:srgbClr val="008000"/>
            </a:solidFill>
            <a:prstDash val="dash"/>
            <a:miter/>
          </a:ln>
        </p:spPr>
      </p:cxnSp>
      <p:cxnSp>
        <p:nvCxnSpPr>
          <p:cNvPr id="1217" name=""/>
          <p:cNvCxnSpPr/>
          <p:nvPr/>
        </p:nvCxnSpPr>
        <p:spPr>
          <a:xfrm flipV="1">
            <a:off x="4066920" y="2133720"/>
            <a:ext cx="1080" cy="358920"/>
          </a:xfrm>
          <a:prstGeom prst="curvedConnector2">
            <a:avLst/>
          </a:prstGeom>
          <a:ln w="12600">
            <a:solidFill>
              <a:srgbClr val="008000"/>
            </a:solidFill>
            <a:prstDash val="dash"/>
            <a:miter/>
          </a:ln>
        </p:spPr>
      </p:cxnSp>
      <p:cxnSp>
        <p:nvCxnSpPr>
          <p:cNvPr id="1218" name=""/>
          <p:cNvCxnSpPr/>
          <p:nvPr/>
        </p:nvCxnSpPr>
        <p:spPr>
          <a:xfrm flipV="1">
            <a:off x="4787640" y="2133720"/>
            <a:ext cx="1080" cy="358920"/>
          </a:xfrm>
          <a:prstGeom prst="curvedConnector2">
            <a:avLst/>
          </a:prstGeom>
          <a:ln w="12600">
            <a:solidFill>
              <a:srgbClr val="008000"/>
            </a:solidFill>
            <a:prstDash val="dash"/>
            <a:miter/>
          </a:ln>
        </p:spPr>
      </p:cxnSp>
      <p:cxnSp>
        <p:nvCxnSpPr>
          <p:cNvPr id="1219" name=""/>
          <p:cNvCxnSpPr/>
          <p:nvPr/>
        </p:nvCxnSpPr>
        <p:spPr>
          <a:xfrm flipV="1">
            <a:off x="8100720" y="2133720"/>
            <a:ext cx="1080" cy="358920"/>
          </a:xfrm>
          <a:prstGeom prst="curvedConnector2">
            <a:avLst/>
          </a:prstGeom>
          <a:ln w="12600">
            <a:solidFill>
              <a:srgbClr val="008000"/>
            </a:solidFill>
            <a:prstDash val="dash"/>
            <a:miter/>
          </a:ln>
        </p:spPr>
      </p:cxnSp>
      <p:cxnSp>
        <p:nvCxnSpPr>
          <p:cNvPr id="1220" name=""/>
          <p:cNvCxnSpPr/>
          <p:nvPr/>
        </p:nvCxnSpPr>
        <p:spPr>
          <a:xfrm flipV="1">
            <a:off x="5651280" y="2133720"/>
            <a:ext cx="1080" cy="358920"/>
          </a:xfrm>
          <a:prstGeom prst="curvedConnector2">
            <a:avLst/>
          </a:prstGeom>
          <a:ln w="12600">
            <a:solidFill>
              <a:srgbClr val="008000"/>
            </a:solidFill>
            <a:prstDash val="dash"/>
            <a:miter/>
          </a:ln>
        </p:spPr>
      </p:cxnSp>
      <p:cxnSp>
        <p:nvCxnSpPr>
          <p:cNvPr id="1221" name=""/>
          <p:cNvCxnSpPr>
            <a:stCxn id="1173" idx="0"/>
            <a:endCxn id="1168" idx="0"/>
          </p:cNvCxnSpPr>
          <p:nvPr/>
        </p:nvCxnSpPr>
        <p:spPr>
          <a:xfrm flipH="1" flipV="1" rot="5400000">
            <a:off x="5699520" y="2054520"/>
            <a:ext cx="103680" cy="2709000"/>
          </a:xfrm>
          <a:prstGeom prst="bentConnector3">
            <a:avLst>
              <a:gd name="adj1" fmla="val 122996"/>
            </a:avLst>
          </a:prstGeom>
          <a:ln w="12600">
            <a:solidFill>
              <a:srgbClr val="008000"/>
            </a:solidFill>
            <a:prstDash val="dash"/>
            <a:miter/>
          </a:ln>
        </p:spPr>
      </p:cxnSp>
      <p:cxnSp>
        <p:nvCxnSpPr>
          <p:cNvPr id="1222" name=""/>
          <p:cNvCxnSpPr>
            <a:stCxn id="1123" idx="2"/>
            <a:endCxn id="1174" idx="0"/>
          </p:cNvCxnSpPr>
          <p:nvPr/>
        </p:nvCxnSpPr>
        <p:spPr>
          <a:xfrm rot="5400000">
            <a:off x="2617920" y="1946880"/>
            <a:ext cx="432360" cy="2532600"/>
          </a:xfrm>
          <a:prstGeom prst="bentConnector3">
            <a:avLst>
              <a:gd name="adj1" fmla="val 73833"/>
            </a:avLst>
          </a:prstGeom>
          <a:ln w="12600">
            <a:solidFill>
              <a:srgbClr val="008000"/>
            </a:solidFill>
            <a:prstDash val="dash"/>
            <a:miter/>
            <a:tailEnd len="med" type="triangle" w="med"/>
          </a:ln>
        </p:spPr>
      </p:cxnSp>
      <p:cxnSp>
        <p:nvCxnSpPr>
          <p:cNvPr id="1223" name=""/>
          <p:cNvCxnSpPr/>
          <p:nvPr/>
        </p:nvCxnSpPr>
        <p:spPr>
          <a:xfrm>
            <a:off x="3058920" y="3355560"/>
            <a:ext cx="1080" cy="144720"/>
          </a:xfrm>
          <a:prstGeom prst="straightConnector1">
            <a:avLst/>
          </a:prstGeom>
          <a:ln w="12600">
            <a:solidFill>
              <a:srgbClr val="008000"/>
            </a:solidFill>
            <a:prstDash val="dash"/>
            <a:miter/>
            <a:tailEnd len="med" type="triangle" w="med"/>
          </a:ln>
        </p:spPr>
      </p:cxnSp>
      <p:sp>
        <p:nvSpPr>
          <p:cNvPr id="1224" name=""/>
          <p:cNvSpPr/>
          <p:nvPr/>
        </p:nvSpPr>
        <p:spPr>
          <a:xfrm>
            <a:off x="466560" y="3284640"/>
            <a:ext cx="360360" cy="171360"/>
          </a:xfrm>
          <a:prstGeom prst="rightArrow">
            <a:avLst>
              <a:gd name="adj1" fmla="val 50000"/>
              <a:gd name="adj2" fmla="val 52574"/>
            </a:avLst>
          </a:prstGeom>
          <a:solidFill>
            <a:srgbClr val="008000"/>
          </a:solidFill>
          <a:ln w="12600">
            <a:solidFill>
              <a:srgbClr val="f7e9a1"/>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225" name=""/>
          <p:cNvSpPr/>
          <p:nvPr/>
        </p:nvSpPr>
        <p:spPr>
          <a:xfrm>
            <a:off x="8315280" y="3357720"/>
            <a:ext cx="360360" cy="171360"/>
          </a:xfrm>
          <a:prstGeom prst="rightArrow">
            <a:avLst>
              <a:gd name="adj1" fmla="val 50000"/>
              <a:gd name="adj2" fmla="val 52574"/>
            </a:avLst>
          </a:prstGeom>
          <a:solidFill>
            <a:srgbClr val="008000"/>
          </a:solidFill>
          <a:ln w="12600">
            <a:solidFill>
              <a:srgbClr val="f7e9a1"/>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226" name=""/>
          <p:cNvSpPr/>
          <p:nvPr/>
        </p:nvSpPr>
        <p:spPr>
          <a:xfrm rot="5400000">
            <a:off x="6132960" y="4026600"/>
            <a:ext cx="360360" cy="171720"/>
          </a:xfrm>
          <a:prstGeom prst="rightArrow">
            <a:avLst>
              <a:gd name="adj1" fmla="val 50000"/>
              <a:gd name="adj2" fmla="val 52463"/>
            </a:avLst>
          </a:prstGeom>
          <a:solidFill>
            <a:srgbClr val="008000"/>
          </a:solidFill>
          <a:ln w="12600">
            <a:solidFill>
              <a:srgbClr val="f7e9a1"/>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227" name=""/>
          <p:cNvSpPr/>
          <p:nvPr/>
        </p:nvSpPr>
        <p:spPr>
          <a:xfrm rot="5400000">
            <a:off x="3442320" y="4028040"/>
            <a:ext cx="360360" cy="171360"/>
          </a:xfrm>
          <a:prstGeom prst="rightArrow">
            <a:avLst>
              <a:gd name="adj1" fmla="val 50000"/>
              <a:gd name="adj2" fmla="val 52574"/>
            </a:avLst>
          </a:prstGeom>
          <a:solidFill>
            <a:srgbClr val="008000"/>
          </a:solidFill>
          <a:ln w="12600">
            <a:solidFill>
              <a:srgbClr val="f7e9a1"/>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228" name=""/>
          <p:cNvSpPr/>
          <p:nvPr/>
        </p:nvSpPr>
        <p:spPr>
          <a:xfrm rot="5400000">
            <a:off x="4089960" y="1218240"/>
            <a:ext cx="360360" cy="171360"/>
          </a:xfrm>
          <a:prstGeom prst="rightArrow">
            <a:avLst>
              <a:gd name="adj1" fmla="val 50000"/>
              <a:gd name="adj2" fmla="val 52574"/>
            </a:avLst>
          </a:prstGeom>
          <a:solidFill>
            <a:srgbClr val="008000"/>
          </a:solidFill>
          <a:ln w="12600">
            <a:solidFill>
              <a:srgbClr val="f7e9a1"/>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1229" name=""/>
          <p:cNvCxnSpPr>
            <a:endCxn id="1122" idx="2"/>
          </p:cNvCxnSpPr>
          <p:nvPr/>
        </p:nvCxnSpPr>
        <p:spPr>
          <a:xfrm flipV="1">
            <a:off x="5003280" y="2997000"/>
            <a:ext cx="1080" cy="327600"/>
          </a:xfrm>
          <a:prstGeom prst="straightConnector1">
            <a:avLst/>
          </a:prstGeom>
          <a:ln w="12600">
            <a:solidFill>
              <a:srgbClr val="008000"/>
            </a:solidFill>
            <a:prstDash val="dash"/>
            <a:miter/>
            <a:tailEnd len="med" type="triangle" w="med"/>
          </a:ln>
        </p:spPr>
      </p:cxnSp>
      <p:cxnSp>
        <p:nvCxnSpPr>
          <p:cNvPr id="1230" name=""/>
          <p:cNvCxnSpPr/>
          <p:nvPr/>
        </p:nvCxnSpPr>
        <p:spPr>
          <a:xfrm flipH="1" flipV="1" rot="5400000">
            <a:off x="5545080" y="3465000"/>
            <a:ext cx="214920" cy="2160"/>
          </a:xfrm>
          <a:prstGeom prst="curvedConnector5">
            <a:avLst>
              <a:gd name="adj1" fmla="val 123657"/>
              <a:gd name="adj2" fmla="val 40000"/>
              <a:gd name="adj3" fmla="val 123657"/>
            </a:avLst>
          </a:prstGeom>
          <a:ln w="12600">
            <a:solidFill>
              <a:srgbClr val="008000"/>
            </a:solidFill>
            <a:prstDash val="dash"/>
            <a:miter/>
          </a:ln>
        </p:spPr>
      </p:cxnSp>
      <p:sp>
        <p:nvSpPr>
          <p:cNvPr id="1231" name=""/>
          <p:cNvSpPr/>
          <p:nvPr/>
        </p:nvSpPr>
        <p:spPr>
          <a:xfrm>
            <a:off x="409680" y="3933720"/>
            <a:ext cx="36576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O DE GESTIÓN DE CALIDAD</a:t>
            </a:r>
            <a:endParaRPr b="0" lang="en-US" sz="1000" spc="-1" strike="noStrike">
              <a:solidFill>
                <a:srgbClr val="000000"/>
              </a:solidFill>
              <a:latin typeface="Arial"/>
            </a:endParaRPr>
          </a:p>
        </p:txBody>
      </p:sp>
      <p:sp>
        <p:nvSpPr>
          <p:cNvPr id="1232" name="">
            <a:hlinkClick r:id="rId1" action="ppaction://hlinksldjump"/>
          </p:cNvPr>
          <p:cNvSpPr/>
          <p:nvPr/>
        </p:nvSpPr>
        <p:spPr>
          <a:xfrm>
            <a:off x="8675640" y="6453360"/>
            <a:ext cx="360360" cy="333360"/>
          </a:xfrm>
          <a:custGeom>
            <a:avLst/>
            <a:gdLst>
              <a:gd name="textAreaLeft" fmla="*/ 33120 w 360360"/>
              <a:gd name="textAreaRight" fmla="*/ 327240 w 360360"/>
              <a:gd name="textAreaTop" fmla="*/ 33120 h 333360"/>
              <a:gd name="textAreaBottom" fmla="*/ 30024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188" y="2160"/>
                </a:lnTo>
                <a:lnTo>
                  <a:pt x="2160" y="2160"/>
                </a:lnTo>
                <a:close/>
              </a:path>
              <a:path fill="darken" w="23348" h="21600">
                <a:moveTo>
                  <a:pt x="23348" y="0"/>
                </a:moveTo>
                <a:lnTo>
                  <a:pt x="23348" y="21600"/>
                </a:lnTo>
                <a:lnTo>
                  <a:pt x="21188" y="19440"/>
                </a:lnTo>
                <a:lnTo>
                  <a:pt x="21188" y="2160"/>
                </a:lnTo>
                <a:close/>
              </a:path>
              <a:path fill="darkenLess" w="23348" h="21600">
                <a:moveTo>
                  <a:pt x="23348" y="21600"/>
                </a:moveTo>
                <a:lnTo>
                  <a:pt x="0" y="21600"/>
                </a:lnTo>
                <a:lnTo>
                  <a:pt x="2160" y="19440"/>
                </a:lnTo>
                <a:lnTo>
                  <a:pt x="21188" y="19440"/>
                </a:lnTo>
                <a:close/>
              </a:path>
              <a:path fill="lighten" w="23348" h="21600">
                <a:moveTo>
                  <a:pt x="0" y="21600"/>
                </a:moveTo>
                <a:lnTo>
                  <a:pt x="0" y="0"/>
                </a:lnTo>
                <a:lnTo>
                  <a:pt x="2160" y="2160"/>
                </a:lnTo>
                <a:lnTo>
                  <a:pt x="2160" y="19440"/>
                </a:lnTo>
                <a:close/>
              </a:path>
              <a:path fill="darken" w="23348" h="21600">
                <a:moveTo>
                  <a:pt x="5234" y="7760"/>
                </a:moveTo>
                <a:lnTo>
                  <a:pt x="8458" y="7760"/>
                </a:lnTo>
                <a:lnTo>
                  <a:pt x="8458" y="12664"/>
                </a:lnTo>
                <a:cubicBezTo>
                  <a:pt x="8458" y="13512"/>
                  <a:pt x="9194" y="14184"/>
                  <a:pt x="10146" y="14184"/>
                </a:cubicBezTo>
                <a:lnTo>
                  <a:pt x="11674" y="14184"/>
                </a:lnTo>
                <a:cubicBezTo>
                  <a:pt x="12626" y="14184"/>
                  <a:pt x="13362" y="13512"/>
                  <a:pt x="13362" y="12664"/>
                </a:cubicBezTo>
                <a:lnTo>
                  <a:pt x="13362" y="7760"/>
                </a:lnTo>
                <a:lnTo>
                  <a:pt x="11674" y="7760"/>
                </a:lnTo>
                <a:lnTo>
                  <a:pt x="14898" y="4536"/>
                </a:lnTo>
                <a:lnTo>
                  <a:pt x="18274" y="7760"/>
                </a:lnTo>
                <a:lnTo>
                  <a:pt x="16586" y="7760"/>
                </a:lnTo>
                <a:lnTo>
                  <a:pt x="16586" y="12664"/>
                </a:lnTo>
                <a:cubicBezTo>
                  <a:pt x="16586" y="15208"/>
                  <a:pt x="14218" y="17560"/>
                  <a:pt x="11674" y="17560"/>
                </a:cubicBezTo>
                <a:lnTo>
                  <a:pt x="10146" y="17560"/>
                </a:lnTo>
                <a:cubicBezTo>
                  <a:pt x="7602" y="17560"/>
                  <a:pt x="5234" y="15208"/>
                  <a:pt x="5234" y="12664"/>
                </a:cubicBezTo>
                <a:close/>
              </a:path>
            </a:pathLst>
          </a:custGeom>
          <a:solidFill>
            <a:srgbClr val="f7e9a1"/>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154" name=""/>
          <p:cNvGrpSpPr/>
          <p:nvPr/>
        </p:nvGrpSpPr>
        <p:grpSpPr>
          <a:xfrm>
            <a:off x="1440" y="0"/>
            <a:ext cx="9183960" cy="6886800"/>
            <a:chOff x="1440" y="0"/>
            <a:chExt cx="9183960" cy="6886800"/>
          </a:xfrm>
        </p:grpSpPr>
        <p:grpSp>
          <p:nvGrpSpPr>
            <p:cNvPr id="155" name=""/>
            <p:cNvGrpSpPr/>
            <p:nvPr/>
          </p:nvGrpSpPr>
          <p:grpSpPr>
            <a:xfrm>
              <a:off x="1440" y="0"/>
              <a:ext cx="9183960" cy="6886800"/>
              <a:chOff x="1440" y="0"/>
              <a:chExt cx="9183960" cy="6886800"/>
            </a:xfrm>
          </p:grpSpPr>
          <p:grpSp>
            <p:nvGrpSpPr>
              <p:cNvPr id="156" name=""/>
              <p:cNvGrpSpPr/>
              <p:nvPr/>
            </p:nvGrpSpPr>
            <p:grpSpPr>
              <a:xfrm>
                <a:off x="1440" y="0"/>
                <a:ext cx="9178920" cy="6886800"/>
                <a:chOff x="1440" y="0"/>
                <a:chExt cx="9178920" cy="6886800"/>
              </a:xfrm>
            </p:grpSpPr>
            <p:grpSp>
              <p:nvGrpSpPr>
                <p:cNvPr id="157" name=""/>
                <p:cNvGrpSpPr/>
                <p:nvPr/>
              </p:nvGrpSpPr>
              <p:grpSpPr>
                <a:xfrm>
                  <a:off x="1440" y="0"/>
                  <a:ext cx="9178920" cy="6886800"/>
                  <a:chOff x="1440" y="0"/>
                  <a:chExt cx="9178920" cy="6886800"/>
                </a:xfrm>
              </p:grpSpPr>
              <p:grpSp>
                <p:nvGrpSpPr>
                  <p:cNvPr id="158" name=""/>
                  <p:cNvGrpSpPr/>
                  <p:nvPr/>
                </p:nvGrpSpPr>
                <p:grpSpPr>
                  <a:xfrm>
                    <a:off x="1440" y="0"/>
                    <a:ext cx="9178920" cy="6886800"/>
                    <a:chOff x="1440" y="0"/>
                    <a:chExt cx="9178920" cy="6886800"/>
                  </a:xfrm>
                </p:grpSpPr>
                <p:grpSp>
                  <p:nvGrpSpPr>
                    <p:cNvPr id="159" name=""/>
                    <p:cNvGrpSpPr/>
                    <p:nvPr/>
                  </p:nvGrpSpPr>
                  <p:grpSpPr>
                    <a:xfrm>
                      <a:off x="1440" y="0"/>
                      <a:ext cx="9178920" cy="6858000"/>
                      <a:chOff x="1440" y="0"/>
                      <a:chExt cx="9178920" cy="6858000"/>
                    </a:xfrm>
                  </p:grpSpPr>
                  <p:sp>
                    <p:nvSpPr>
                      <p:cNvPr id="160"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1" name=""/>
                      <p:cNvGrpSpPr/>
                      <p:nvPr/>
                    </p:nvGrpSpPr>
                    <p:grpSpPr>
                      <a:xfrm>
                        <a:off x="539640" y="0"/>
                        <a:ext cx="8640720" cy="6381720"/>
                        <a:chOff x="539640" y="0"/>
                        <a:chExt cx="8640720" cy="6381720"/>
                      </a:xfrm>
                    </p:grpSpPr>
                    <p:grpSp>
                      <p:nvGrpSpPr>
                        <p:cNvPr id="162" name=""/>
                        <p:cNvGrpSpPr/>
                        <p:nvPr/>
                      </p:nvGrpSpPr>
                      <p:grpSpPr>
                        <a:xfrm>
                          <a:off x="576360" y="0"/>
                          <a:ext cx="8604000" cy="1628640"/>
                          <a:chOff x="576360" y="0"/>
                          <a:chExt cx="8604000" cy="1628640"/>
                        </a:xfrm>
                      </p:grpSpPr>
                      <p:sp>
                        <p:nvSpPr>
                          <p:cNvPr id="163"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65"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67"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68"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9" name=""/>
                    <p:cNvGrpSpPr/>
                    <p:nvPr/>
                  </p:nvGrpSpPr>
                  <p:grpSpPr>
                    <a:xfrm>
                      <a:off x="179280" y="12600"/>
                      <a:ext cx="576360" cy="6836040"/>
                      <a:chOff x="179280" y="12600"/>
                      <a:chExt cx="576360" cy="6836040"/>
                    </a:xfrm>
                  </p:grpSpPr>
                  <p:sp>
                    <p:nvSpPr>
                      <p:cNvPr id="170"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71"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72"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74"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75"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76"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77"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78"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79"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80"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82"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83"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84"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85"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86"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87"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88"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89"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90"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92"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94"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95"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96"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97"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98"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6"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57"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58"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59"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60"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2"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63" name="" descr=""/>
              <p:cNvPicPr/>
              <p:nvPr/>
            </p:nvPicPr>
            <p:blipFill>
              <a:blip r:embed="rId4"/>
              <a:stretch/>
            </p:blipFill>
            <p:spPr>
              <a:xfrm>
                <a:off x="8782200" y="27000"/>
                <a:ext cx="403200" cy="954000"/>
              </a:xfrm>
              <a:prstGeom prst="rect">
                <a:avLst/>
              </a:prstGeom>
              <a:ln w="0">
                <a:noFill/>
              </a:ln>
            </p:spPr>
          </p:pic>
        </p:grpSp>
        <p:sp>
          <p:nvSpPr>
            <p:cNvPr id="264" name="">
              <a:hlinkClick r:id="" action="ppaction://hlinkshowjump?jump=previousslide"/>
            </p:cNvPr>
            <p:cNvSpPr/>
            <p:nvPr/>
          </p:nvSpPr>
          <p:spPr>
            <a:xfrm>
              <a:off x="8244000" y="6453360"/>
              <a:ext cx="360360" cy="333360"/>
            </a:xfrm>
            <a:custGeom>
              <a:avLst/>
              <a:gdLst>
                <a:gd name="textAreaLeft" fmla="*/ 33120 w 360360"/>
                <a:gd name="textAreaRight" fmla="*/ 327240 w 360360"/>
                <a:gd name="textAreaTop" fmla="*/ 33120 h 333360"/>
                <a:gd name="textAreaBottom" fmla="*/ 30024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188" y="2160"/>
                  </a:lnTo>
                  <a:lnTo>
                    <a:pt x="2160" y="2160"/>
                  </a:lnTo>
                  <a:close/>
                </a:path>
                <a:path fill="darken" w="23348" h="21600">
                  <a:moveTo>
                    <a:pt x="23348" y="0"/>
                  </a:moveTo>
                  <a:lnTo>
                    <a:pt x="23348" y="21600"/>
                  </a:lnTo>
                  <a:lnTo>
                    <a:pt x="21188" y="19440"/>
                  </a:lnTo>
                  <a:lnTo>
                    <a:pt x="21188" y="2160"/>
                  </a:lnTo>
                  <a:close/>
                </a:path>
                <a:path fill="darkenLess" w="23348" h="21600">
                  <a:moveTo>
                    <a:pt x="23348" y="21600"/>
                  </a:moveTo>
                  <a:lnTo>
                    <a:pt x="0" y="21600"/>
                  </a:lnTo>
                  <a:lnTo>
                    <a:pt x="2160" y="19440"/>
                  </a:lnTo>
                  <a:lnTo>
                    <a:pt x="21188" y="19440"/>
                  </a:lnTo>
                  <a:close/>
                </a:path>
                <a:path fill="lighten" w="23348" h="21600">
                  <a:moveTo>
                    <a:pt x="0" y="21600"/>
                  </a:moveTo>
                  <a:lnTo>
                    <a:pt x="0" y="0"/>
                  </a:lnTo>
                  <a:lnTo>
                    <a:pt x="2160" y="2160"/>
                  </a:lnTo>
                  <a:lnTo>
                    <a:pt x="2160" y="19440"/>
                  </a:lnTo>
                  <a:close/>
                </a:path>
                <a:path fill="darken" w="23348" h="21600">
                  <a:moveTo>
                    <a:pt x="5234" y="7760"/>
                  </a:moveTo>
                  <a:lnTo>
                    <a:pt x="8458" y="7760"/>
                  </a:lnTo>
                  <a:lnTo>
                    <a:pt x="8458" y="12664"/>
                  </a:lnTo>
                  <a:cubicBezTo>
                    <a:pt x="8458" y="13512"/>
                    <a:pt x="9194" y="14184"/>
                    <a:pt x="10146" y="14184"/>
                  </a:cubicBezTo>
                  <a:lnTo>
                    <a:pt x="11674" y="14184"/>
                  </a:lnTo>
                  <a:cubicBezTo>
                    <a:pt x="12626" y="14184"/>
                    <a:pt x="13362" y="13512"/>
                    <a:pt x="13362" y="12664"/>
                  </a:cubicBezTo>
                  <a:lnTo>
                    <a:pt x="13362" y="7760"/>
                  </a:lnTo>
                  <a:lnTo>
                    <a:pt x="11674" y="7760"/>
                  </a:lnTo>
                  <a:lnTo>
                    <a:pt x="14898" y="4536"/>
                  </a:lnTo>
                  <a:lnTo>
                    <a:pt x="18274" y="7760"/>
                  </a:lnTo>
                  <a:lnTo>
                    <a:pt x="16586" y="7760"/>
                  </a:lnTo>
                  <a:lnTo>
                    <a:pt x="16586" y="12664"/>
                  </a:lnTo>
                  <a:cubicBezTo>
                    <a:pt x="16586" y="15208"/>
                    <a:pt x="14218" y="17560"/>
                    <a:pt x="11674" y="17560"/>
                  </a:cubicBezTo>
                  <a:lnTo>
                    <a:pt x="10146" y="17560"/>
                  </a:lnTo>
                  <a:cubicBezTo>
                    <a:pt x="7602" y="17560"/>
                    <a:pt x="5234" y="15208"/>
                    <a:pt x="5234" y="12664"/>
                  </a:cubicBezTo>
                  <a:close/>
                </a:path>
              </a:pathLst>
            </a:custGeom>
            <a:solidFill>
              <a:srgbClr val="f7e9a1"/>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265" name=""/>
          <p:cNvGraphicFramePr/>
          <p:nvPr/>
        </p:nvGraphicFramePr>
        <p:xfrm>
          <a:off x="179280" y="12600"/>
          <a:ext cx="576360" cy="6836040"/>
        </p:xfrm>
        <a:graphic>
          <a:graphicData uri="http://schemas.openxmlformats.org/drawingml/2006/table">
            <a:tbl>
              <a:tblPr/>
              <a:tblGrid>
                <a:gridCol w="57636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66" name=""/>
          <p:cNvSpPr/>
          <p:nvPr/>
        </p:nvSpPr>
        <p:spPr>
          <a:xfrm>
            <a:off x="1619280" y="3068640"/>
            <a:ext cx="6840360" cy="2654280"/>
          </a:xfrm>
          <a:prstGeom prst="rect">
            <a:avLst/>
          </a:prstGeom>
          <a:noFill/>
          <a:ln w="0">
            <a:noFill/>
          </a:ln>
        </p:spPr>
        <p:style>
          <a:lnRef idx="0"/>
          <a:fillRef idx="0"/>
          <a:effectRef idx="0"/>
          <a:fontRef idx="minor"/>
        </p:style>
        <p:txBody>
          <a:bodyPr lIns="90000" rIns="90000" tIns="46800" bIns="46800" anchor="t">
            <a:spAutoFit/>
          </a:bodyPr>
          <a:p>
            <a:pPr>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hlinkClick r:id="rId6" action="ppaction://hlinksldjump"/>
              </a:rPr>
              <a:t>HISTORIA</a:t>
            </a:r>
            <a:endParaRPr b="0" lang="en-US" sz="2400" spc="-1" strike="noStrike">
              <a:solidFill>
                <a:srgbClr val="000000"/>
              </a:solidFill>
              <a:latin typeface="Arial"/>
            </a:endParaRPr>
          </a:p>
          <a:p>
            <a:pPr>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hlinkClick r:id="rId10" action="ppaction://hlinksldjump"/>
              </a:rPr>
              <a:t>ACTIVIDADES</a:t>
            </a:r>
            <a:endParaRPr b="0" lang="en-US" sz="2400" spc="-1" strike="noStrike">
              <a:solidFill>
                <a:srgbClr val="000000"/>
              </a:solidFill>
              <a:latin typeface="Arial"/>
            </a:endParaRPr>
          </a:p>
          <a:p>
            <a:pPr>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hlinkClick r:id="rId14" action="ppaction://hlinksldjump"/>
              </a:rPr>
              <a:t>DIFERENCIACIÓN DE LA EMPRESA</a:t>
            </a:r>
            <a:r>
              <a:rPr b="1" lang="en-US" sz="2400" spc="-1" strike="noStrike">
                <a:solidFill>
                  <a:srgbClr val="ffffff"/>
                </a:solidFill>
                <a:latin typeface="Arial"/>
              </a:rPr>
              <a:t> </a:t>
            </a:r>
            <a:endParaRPr b="0" lang="en-US" sz="2400" spc="-1" strike="noStrike">
              <a:solidFill>
                <a:srgbClr val="000000"/>
              </a:solidFill>
              <a:latin typeface="Arial"/>
            </a:endParaRPr>
          </a:p>
        </p:txBody>
      </p:sp>
      <p:sp>
        <p:nvSpPr>
          <p:cNvPr id="267" name=""/>
          <p:cNvSpPr txBox="1"/>
          <p:nvPr/>
        </p:nvSpPr>
        <p:spPr>
          <a:xfrm>
            <a:off x="2556000" y="1989000"/>
            <a:ext cx="4752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ANÁLISIS DESCRIPTIVO</a:t>
            </a:r>
            <a:endParaRPr b="1" lang="en-US" sz="1800" spc="1" strike="noStrike">
              <a:ln w="0">
                <a:noFill/>
              </a:ln>
              <a:solidFill>
                <a:srgbClr val="f7e9a1"/>
              </a:solidFill>
              <a:latin typeface="BankGothic Md BT"/>
              <a:ea typeface="BankGothic Md BT"/>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268" name=""/>
          <p:cNvGrpSpPr/>
          <p:nvPr/>
        </p:nvGrpSpPr>
        <p:grpSpPr>
          <a:xfrm>
            <a:off x="1440" y="0"/>
            <a:ext cx="9183960" cy="6886800"/>
            <a:chOff x="1440" y="0"/>
            <a:chExt cx="9183960" cy="6886800"/>
          </a:xfrm>
        </p:grpSpPr>
        <p:grpSp>
          <p:nvGrpSpPr>
            <p:cNvPr id="269" name=""/>
            <p:cNvGrpSpPr/>
            <p:nvPr/>
          </p:nvGrpSpPr>
          <p:grpSpPr>
            <a:xfrm>
              <a:off x="1440" y="0"/>
              <a:ext cx="9183960" cy="6886800"/>
              <a:chOff x="1440" y="0"/>
              <a:chExt cx="9183960" cy="6886800"/>
            </a:xfrm>
          </p:grpSpPr>
          <p:grpSp>
            <p:nvGrpSpPr>
              <p:cNvPr id="270" name=""/>
              <p:cNvGrpSpPr/>
              <p:nvPr/>
            </p:nvGrpSpPr>
            <p:grpSpPr>
              <a:xfrm>
                <a:off x="1440" y="0"/>
                <a:ext cx="9178920" cy="6886800"/>
                <a:chOff x="1440" y="0"/>
                <a:chExt cx="9178920" cy="6886800"/>
              </a:xfrm>
            </p:grpSpPr>
            <p:grpSp>
              <p:nvGrpSpPr>
                <p:cNvPr id="271" name=""/>
                <p:cNvGrpSpPr/>
                <p:nvPr/>
              </p:nvGrpSpPr>
              <p:grpSpPr>
                <a:xfrm>
                  <a:off x="1440" y="0"/>
                  <a:ext cx="9178920" cy="6886800"/>
                  <a:chOff x="1440" y="0"/>
                  <a:chExt cx="9178920" cy="6886800"/>
                </a:xfrm>
              </p:grpSpPr>
              <p:grpSp>
                <p:nvGrpSpPr>
                  <p:cNvPr id="272" name=""/>
                  <p:cNvGrpSpPr/>
                  <p:nvPr/>
                </p:nvGrpSpPr>
                <p:grpSpPr>
                  <a:xfrm>
                    <a:off x="1440" y="0"/>
                    <a:ext cx="9178920" cy="6886800"/>
                    <a:chOff x="1440" y="0"/>
                    <a:chExt cx="9178920" cy="6886800"/>
                  </a:xfrm>
                </p:grpSpPr>
                <p:grpSp>
                  <p:nvGrpSpPr>
                    <p:cNvPr id="273" name=""/>
                    <p:cNvGrpSpPr/>
                    <p:nvPr/>
                  </p:nvGrpSpPr>
                  <p:grpSpPr>
                    <a:xfrm>
                      <a:off x="1440" y="0"/>
                      <a:ext cx="9178920" cy="6858000"/>
                      <a:chOff x="1440" y="0"/>
                      <a:chExt cx="9178920" cy="6858000"/>
                    </a:xfrm>
                  </p:grpSpPr>
                  <p:sp>
                    <p:nvSpPr>
                      <p:cNvPr id="274"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5" name=""/>
                      <p:cNvGrpSpPr/>
                      <p:nvPr/>
                    </p:nvGrpSpPr>
                    <p:grpSpPr>
                      <a:xfrm>
                        <a:off x="539640" y="0"/>
                        <a:ext cx="8640720" cy="6381720"/>
                        <a:chOff x="539640" y="0"/>
                        <a:chExt cx="8640720" cy="6381720"/>
                      </a:xfrm>
                    </p:grpSpPr>
                    <p:grpSp>
                      <p:nvGrpSpPr>
                        <p:cNvPr id="276" name=""/>
                        <p:cNvGrpSpPr/>
                        <p:nvPr/>
                      </p:nvGrpSpPr>
                      <p:grpSpPr>
                        <a:xfrm>
                          <a:off x="576360" y="0"/>
                          <a:ext cx="8604000" cy="1628640"/>
                          <a:chOff x="576360" y="0"/>
                          <a:chExt cx="8604000" cy="1628640"/>
                        </a:xfrm>
                      </p:grpSpPr>
                      <p:sp>
                        <p:nvSpPr>
                          <p:cNvPr id="277"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79"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81"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82"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3" name=""/>
                    <p:cNvGrpSpPr/>
                    <p:nvPr/>
                  </p:nvGrpSpPr>
                  <p:grpSpPr>
                    <a:xfrm>
                      <a:off x="179280" y="12600"/>
                      <a:ext cx="576360" cy="6836040"/>
                      <a:chOff x="179280" y="12600"/>
                      <a:chExt cx="576360" cy="6836040"/>
                    </a:xfrm>
                  </p:grpSpPr>
                  <p:sp>
                    <p:nvSpPr>
                      <p:cNvPr id="284"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85"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86"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88"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89"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290"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291"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292"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293"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94"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96"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97"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298"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299"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300"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01"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02"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03"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304"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06"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08"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309"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10"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311"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12"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0"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371"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372"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373"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374"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76"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77" name="" descr=""/>
              <p:cNvPicPr/>
              <p:nvPr/>
            </p:nvPicPr>
            <p:blipFill>
              <a:blip r:embed="rId4"/>
              <a:stretch/>
            </p:blipFill>
            <p:spPr>
              <a:xfrm>
                <a:off x="8782200" y="27000"/>
                <a:ext cx="403200" cy="954000"/>
              </a:xfrm>
              <a:prstGeom prst="rect">
                <a:avLst/>
              </a:prstGeom>
              <a:ln w="0">
                <a:noFill/>
              </a:ln>
            </p:spPr>
          </p:pic>
        </p:grpSp>
        <p:sp>
          <p:nvSpPr>
            <p:cNvPr id="378" name="">
              <a:hlinkClick r:id="" action="ppaction://hlinkshowjump?jump=previousslide"/>
            </p:cNvPr>
            <p:cNvSpPr/>
            <p:nvPr/>
          </p:nvSpPr>
          <p:spPr>
            <a:xfrm>
              <a:off x="8244000" y="6453360"/>
              <a:ext cx="360360" cy="333360"/>
            </a:xfrm>
            <a:custGeom>
              <a:avLst/>
              <a:gdLst>
                <a:gd name="textAreaLeft" fmla="*/ 33120 w 360360"/>
                <a:gd name="textAreaRight" fmla="*/ 327240 w 360360"/>
                <a:gd name="textAreaTop" fmla="*/ 33120 h 333360"/>
                <a:gd name="textAreaBottom" fmla="*/ 30024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188" y="2160"/>
                  </a:lnTo>
                  <a:lnTo>
                    <a:pt x="2160" y="2160"/>
                  </a:lnTo>
                  <a:close/>
                </a:path>
                <a:path fill="darken" w="23348" h="21600">
                  <a:moveTo>
                    <a:pt x="23348" y="0"/>
                  </a:moveTo>
                  <a:lnTo>
                    <a:pt x="23348" y="21600"/>
                  </a:lnTo>
                  <a:lnTo>
                    <a:pt x="21188" y="19440"/>
                  </a:lnTo>
                  <a:lnTo>
                    <a:pt x="21188" y="2160"/>
                  </a:lnTo>
                  <a:close/>
                </a:path>
                <a:path fill="darkenLess" w="23348" h="21600">
                  <a:moveTo>
                    <a:pt x="23348" y="21600"/>
                  </a:moveTo>
                  <a:lnTo>
                    <a:pt x="0" y="21600"/>
                  </a:lnTo>
                  <a:lnTo>
                    <a:pt x="2160" y="19440"/>
                  </a:lnTo>
                  <a:lnTo>
                    <a:pt x="21188" y="19440"/>
                  </a:lnTo>
                  <a:close/>
                </a:path>
                <a:path fill="lighten" w="23348" h="21600">
                  <a:moveTo>
                    <a:pt x="0" y="21600"/>
                  </a:moveTo>
                  <a:lnTo>
                    <a:pt x="0" y="0"/>
                  </a:lnTo>
                  <a:lnTo>
                    <a:pt x="2160" y="2160"/>
                  </a:lnTo>
                  <a:lnTo>
                    <a:pt x="2160" y="19440"/>
                  </a:lnTo>
                  <a:close/>
                </a:path>
                <a:path fill="darken" w="23348" h="21600">
                  <a:moveTo>
                    <a:pt x="5234" y="7760"/>
                  </a:moveTo>
                  <a:lnTo>
                    <a:pt x="8458" y="7760"/>
                  </a:lnTo>
                  <a:lnTo>
                    <a:pt x="8458" y="12664"/>
                  </a:lnTo>
                  <a:cubicBezTo>
                    <a:pt x="8458" y="13512"/>
                    <a:pt x="9194" y="14184"/>
                    <a:pt x="10146" y="14184"/>
                  </a:cubicBezTo>
                  <a:lnTo>
                    <a:pt x="11674" y="14184"/>
                  </a:lnTo>
                  <a:cubicBezTo>
                    <a:pt x="12626" y="14184"/>
                    <a:pt x="13362" y="13512"/>
                    <a:pt x="13362" y="12664"/>
                  </a:cubicBezTo>
                  <a:lnTo>
                    <a:pt x="13362" y="7760"/>
                  </a:lnTo>
                  <a:lnTo>
                    <a:pt x="11674" y="7760"/>
                  </a:lnTo>
                  <a:lnTo>
                    <a:pt x="14898" y="4536"/>
                  </a:lnTo>
                  <a:lnTo>
                    <a:pt x="18274" y="7760"/>
                  </a:lnTo>
                  <a:lnTo>
                    <a:pt x="16586" y="7760"/>
                  </a:lnTo>
                  <a:lnTo>
                    <a:pt x="16586" y="12664"/>
                  </a:lnTo>
                  <a:cubicBezTo>
                    <a:pt x="16586" y="15208"/>
                    <a:pt x="14218" y="17560"/>
                    <a:pt x="11674" y="17560"/>
                  </a:cubicBezTo>
                  <a:lnTo>
                    <a:pt x="10146" y="17560"/>
                  </a:lnTo>
                  <a:cubicBezTo>
                    <a:pt x="7602" y="17560"/>
                    <a:pt x="5234" y="15208"/>
                    <a:pt x="5234" y="12664"/>
                  </a:cubicBezTo>
                  <a:close/>
                </a:path>
              </a:pathLst>
            </a:custGeom>
            <a:solidFill>
              <a:srgbClr val="f7e9a1"/>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 name=""/>
          <p:cNvSpPr/>
          <p:nvPr/>
        </p:nvSpPr>
        <p:spPr>
          <a:xfrm>
            <a:off x="901800" y="199692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3379680" y="4135320"/>
            <a:ext cx="912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986</a:t>
            </a:r>
            <a:endParaRPr b="0" lang="en-US" sz="1800" spc="-1" strike="noStrike">
              <a:solidFill>
                <a:srgbClr val="000000"/>
              </a:solidFill>
              <a:latin typeface="Arial"/>
            </a:endParaRPr>
          </a:p>
        </p:txBody>
      </p:sp>
      <p:sp>
        <p:nvSpPr>
          <p:cNvPr id="381" name=""/>
          <p:cNvSpPr/>
          <p:nvPr/>
        </p:nvSpPr>
        <p:spPr>
          <a:xfrm>
            <a:off x="1857240" y="3852720"/>
            <a:ext cx="0" cy="289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356080" y="4141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05</a:t>
            </a:r>
            <a:endParaRPr b="0" lang="en-US" sz="1800" spc="-1" strike="noStrike">
              <a:solidFill>
                <a:srgbClr val="000000"/>
              </a:solidFill>
              <a:latin typeface="Arial"/>
            </a:endParaRPr>
          </a:p>
        </p:txBody>
      </p:sp>
      <p:sp>
        <p:nvSpPr>
          <p:cNvPr id="383" name=""/>
          <p:cNvSpPr/>
          <p:nvPr/>
        </p:nvSpPr>
        <p:spPr>
          <a:xfrm>
            <a:off x="7337520" y="4141800"/>
            <a:ext cx="83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09</a:t>
            </a:r>
            <a:endParaRPr b="0" lang="en-US" sz="1800" spc="-1" strike="noStrike">
              <a:solidFill>
                <a:srgbClr val="000000"/>
              </a:solidFill>
              <a:latin typeface="Arial"/>
            </a:endParaRPr>
          </a:p>
        </p:txBody>
      </p:sp>
      <p:grpSp>
        <p:nvGrpSpPr>
          <p:cNvPr id="384" name=""/>
          <p:cNvGrpSpPr/>
          <p:nvPr/>
        </p:nvGrpSpPr>
        <p:grpSpPr>
          <a:xfrm>
            <a:off x="1857240" y="3860640"/>
            <a:ext cx="5857560" cy="288720"/>
            <a:chOff x="1857240" y="3860640"/>
            <a:chExt cx="5857560" cy="288720"/>
          </a:xfrm>
        </p:grpSpPr>
        <p:sp>
          <p:nvSpPr>
            <p:cNvPr id="385" name=""/>
            <p:cNvSpPr/>
            <p:nvPr/>
          </p:nvSpPr>
          <p:spPr>
            <a:xfrm>
              <a:off x="1857240" y="4003560"/>
              <a:ext cx="5857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375912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771480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573912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 name=""/>
          <p:cNvSpPr/>
          <p:nvPr/>
        </p:nvSpPr>
        <p:spPr>
          <a:xfrm>
            <a:off x="1476360" y="4141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950</a:t>
            </a:r>
            <a:endParaRPr b="0" lang="en-US" sz="1800" spc="-1" strike="noStrike">
              <a:solidFill>
                <a:srgbClr val="000000"/>
              </a:solidFill>
              <a:latin typeface="Arial"/>
            </a:endParaRPr>
          </a:p>
        </p:txBody>
      </p:sp>
      <p:sp>
        <p:nvSpPr>
          <p:cNvPr id="390" name=""/>
          <p:cNvSpPr txBox="1"/>
          <p:nvPr/>
        </p:nvSpPr>
        <p:spPr>
          <a:xfrm>
            <a:off x="5556240" y="1989000"/>
            <a:ext cx="290340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a:t>
            </a:r>
            <a:endParaRPr b="1" lang="en-US" sz="1800" spc="1" strike="noStrike">
              <a:ln w="0">
                <a:noFill/>
              </a:ln>
              <a:solidFill>
                <a:srgbClr val="f7e9a1"/>
              </a:solidFill>
              <a:latin typeface="BankGothic Md BT"/>
              <a:ea typeface="BankGothic Md BT"/>
            </a:endParaRPr>
          </a:p>
        </p:txBody>
      </p:sp>
      <p:sp>
        <p:nvSpPr>
          <p:cNvPr id="391" name=""/>
          <p:cNvSpPr/>
          <p:nvPr/>
        </p:nvSpPr>
        <p:spPr>
          <a:xfrm>
            <a:off x="1763640" y="2565360"/>
            <a:ext cx="1584360" cy="1008000"/>
          </a:xfrm>
          <a:prstGeom prst="wedgeRoundRectCallout">
            <a:avLst>
              <a:gd name="adj1" fmla="val -43518"/>
              <a:gd name="adj2" fmla="val 70000"/>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Fundación de la empresa Construcciones Aguirre, dedicada a la construcción de entes públicos</a:t>
            </a:r>
            <a:endParaRPr b="0" lang="en-US" sz="1000" spc="-1" strike="noStrike">
              <a:solidFill>
                <a:srgbClr val="000000"/>
              </a:solidFill>
              <a:latin typeface="Arial"/>
            </a:endParaRPr>
          </a:p>
        </p:txBody>
      </p:sp>
      <p:sp>
        <p:nvSpPr>
          <p:cNvPr id="392" name=""/>
          <p:cNvSpPr/>
          <p:nvPr/>
        </p:nvSpPr>
        <p:spPr>
          <a:xfrm>
            <a:off x="1332000" y="4653000"/>
            <a:ext cx="2448000" cy="936720"/>
          </a:xfrm>
          <a:prstGeom prst="wedgeRoundRectCallout">
            <a:avLst>
              <a:gd name="adj1" fmla="val 48250"/>
              <a:gd name="adj2" fmla="val -71018"/>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 crea como tal Obras y Proyectos Aguirre. S. L</a:t>
            </a:r>
            <a:r>
              <a:rPr b="0" lang="es-ES_tradnl" sz="1800" spc="-1" strike="noStrike">
                <a:solidFill>
                  <a:srgbClr val="000000"/>
                </a:solidFill>
                <a:latin typeface="Arial"/>
              </a:rPr>
              <a:t> </a:t>
            </a:r>
            <a:r>
              <a:rPr b="0" lang="es-ES_tradnl" sz="1000" spc="-1" strike="noStrike">
                <a:solidFill>
                  <a:srgbClr val="000000"/>
                </a:solidFill>
                <a:latin typeface="Arial"/>
              </a:rPr>
              <a:t>dedicada a la reforma y construcción de oficinas y locales, en relacionadas con el sector bancari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3" name=""/>
          <p:cNvSpPr/>
          <p:nvPr/>
        </p:nvSpPr>
        <p:spPr>
          <a:xfrm>
            <a:off x="4211640" y="2565360"/>
            <a:ext cx="1584360" cy="1079640"/>
          </a:xfrm>
          <a:prstGeom prst="wedgeRoundRectCallout">
            <a:avLst>
              <a:gd name="adj1" fmla="val 44388"/>
              <a:gd name="adj2" fmla="val 62939"/>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dicha fecha, se implanta en la empresa el Sistema de Calidad, debido al desarrollo del objetivo empresari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4" name=""/>
          <p:cNvSpPr/>
          <p:nvPr/>
        </p:nvSpPr>
        <p:spPr>
          <a:xfrm>
            <a:off x="5724360" y="4581360"/>
            <a:ext cx="1943280" cy="1368720"/>
          </a:xfrm>
          <a:prstGeom prst="wedgeRoundRectCallout">
            <a:avLst>
              <a:gd name="adj1" fmla="val 55472"/>
              <a:gd name="adj2" fmla="val -57773"/>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 día de hoy Obras y Proyectos Aguirre S. L se mantiene como una empresa consolidada y comprometida  con sus clientes, respondiendo de forma eficaz y eficiente.</a:t>
            </a:r>
            <a:endParaRPr b="0" lang="en-US" sz="1000" spc="-1" strike="noStrike">
              <a:solidFill>
                <a:srgbClr val="000000"/>
              </a:solidFill>
              <a:latin typeface="Arial"/>
            </a:endParaRPr>
          </a:p>
        </p:txBody>
      </p:sp>
      <p:sp>
        <p:nvSpPr>
          <p:cNvPr id="395" name="">
            <a:hlinkClick r:id="" action="ppaction://hlinkshowjump?jump=nextslide"/>
          </p:cNvPr>
          <p:cNvSpPr/>
          <p:nvPr/>
        </p:nvSpPr>
        <p:spPr>
          <a:xfrm>
            <a:off x="7812000" y="5589720"/>
            <a:ext cx="432000" cy="215640"/>
          </a:xfrm>
          <a:custGeom>
            <a:avLst/>
            <a:gdLst>
              <a:gd name="textAreaLeft" fmla="*/ 27000 w 432000"/>
              <a:gd name="textAreaRight" fmla="*/ 405000 w 432000"/>
              <a:gd name="textAreaTop" fmla="*/ 27000 h 215640"/>
              <a:gd name="textAreaBottom" fmla="*/ 189000 h 215640"/>
            </a:gdLst>
            <a:ahLst/>
            <a:rect l="textAreaLeft" t="textAreaTop" r="textAreaRight" b="textAreaBottom"/>
            <a:pathLst>
              <a:path w="43236" h="21600">
                <a:moveTo>
                  <a:pt x="0" y="0"/>
                </a:moveTo>
                <a:lnTo>
                  <a:pt x="43236" y="0"/>
                </a:lnTo>
                <a:lnTo>
                  <a:pt x="43236" y="21600"/>
                </a:lnTo>
                <a:lnTo>
                  <a:pt x="0" y="21600"/>
                </a:lnTo>
                <a:close/>
              </a:path>
              <a:path fill="lightenLess" w="43236" h="21600">
                <a:moveTo>
                  <a:pt x="0" y="0"/>
                </a:moveTo>
                <a:lnTo>
                  <a:pt x="43236" y="0"/>
                </a:lnTo>
                <a:lnTo>
                  <a:pt x="40536" y="2700"/>
                </a:lnTo>
                <a:lnTo>
                  <a:pt x="2700" y="2700"/>
                </a:lnTo>
                <a:close/>
              </a:path>
              <a:path fill="darken" w="43236" h="21600">
                <a:moveTo>
                  <a:pt x="43236" y="0"/>
                </a:moveTo>
                <a:lnTo>
                  <a:pt x="43236" y="21600"/>
                </a:lnTo>
                <a:lnTo>
                  <a:pt x="40536" y="18900"/>
                </a:lnTo>
                <a:lnTo>
                  <a:pt x="40536" y="2700"/>
                </a:lnTo>
                <a:close/>
              </a:path>
              <a:path fill="darkenLess" w="43236" h="21600">
                <a:moveTo>
                  <a:pt x="43236" y="21600"/>
                </a:moveTo>
                <a:lnTo>
                  <a:pt x="0" y="21600"/>
                </a:lnTo>
                <a:lnTo>
                  <a:pt x="2700" y="18900"/>
                </a:lnTo>
                <a:lnTo>
                  <a:pt x="40536" y="18900"/>
                </a:lnTo>
                <a:close/>
              </a:path>
              <a:path fill="lighten" w="43236" h="21600">
                <a:moveTo>
                  <a:pt x="0" y="21600"/>
                </a:moveTo>
                <a:lnTo>
                  <a:pt x="0" y="0"/>
                </a:lnTo>
                <a:lnTo>
                  <a:pt x="2700" y="2700"/>
                </a:lnTo>
                <a:lnTo>
                  <a:pt x="2700" y="18900"/>
                </a:lnTo>
                <a:close/>
              </a:path>
              <a:path fill="darken" w="43236" h="21600">
                <a:moveTo>
                  <a:pt x="15580" y="4763"/>
                </a:moveTo>
                <a:lnTo>
                  <a:pt x="27655" y="10800"/>
                </a:lnTo>
                <a:lnTo>
                  <a:pt x="15580" y="16838"/>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396" name=""/>
          <p:cNvGrpSpPr/>
          <p:nvPr/>
        </p:nvGrpSpPr>
        <p:grpSpPr>
          <a:xfrm>
            <a:off x="1440" y="0"/>
            <a:ext cx="9183960" cy="6886800"/>
            <a:chOff x="1440" y="0"/>
            <a:chExt cx="9183960" cy="6886800"/>
          </a:xfrm>
        </p:grpSpPr>
        <p:grpSp>
          <p:nvGrpSpPr>
            <p:cNvPr id="397" name=""/>
            <p:cNvGrpSpPr/>
            <p:nvPr/>
          </p:nvGrpSpPr>
          <p:grpSpPr>
            <a:xfrm>
              <a:off x="1440" y="0"/>
              <a:ext cx="9183960" cy="6886800"/>
              <a:chOff x="1440" y="0"/>
              <a:chExt cx="9183960" cy="6886800"/>
            </a:xfrm>
          </p:grpSpPr>
          <p:grpSp>
            <p:nvGrpSpPr>
              <p:cNvPr id="398" name=""/>
              <p:cNvGrpSpPr/>
              <p:nvPr/>
            </p:nvGrpSpPr>
            <p:grpSpPr>
              <a:xfrm>
                <a:off x="1440" y="0"/>
                <a:ext cx="9178920" cy="6886800"/>
                <a:chOff x="1440" y="0"/>
                <a:chExt cx="9178920" cy="6886800"/>
              </a:xfrm>
            </p:grpSpPr>
            <p:grpSp>
              <p:nvGrpSpPr>
                <p:cNvPr id="399" name=""/>
                <p:cNvGrpSpPr/>
                <p:nvPr/>
              </p:nvGrpSpPr>
              <p:grpSpPr>
                <a:xfrm>
                  <a:off x="1440" y="0"/>
                  <a:ext cx="9178920" cy="6886800"/>
                  <a:chOff x="1440" y="0"/>
                  <a:chExt cx="9178920" cy="6886800"/>
                </a:xfrm>
              </p:grpSpPr>
              <p:grpSp>
                <p:nvGrpSpPr>
                  <p:cNvPr id="400" name=""/>
                  <p:cNvGrpSpPr/>
                  <p:nvPr/>
                </p:nvGrpSpPr>
                <p:grpSpPr>
                  <a:xfrm>
                    <a:off x="1440" y="0"/>
                    <a:ext cx="9178920" cy="6886800"/>
                    <a:chOff x="1440" y="0"/>
                    <a:chExt cx="9178920" cy="6886800"/>
                  </a:xfrm>
                </p:grpSpPr>
                <p:grpSp>
                  <p:nvGrpSpPr>
                    <p:cNvPr id="401" name=""/>
                    <p:cNvGrpSpPr/>
                    <p:nvPr/>
                  </p:nvGrpSpPr>
                  <p:grpSpPr>
                    <a:xfrm>
                      <a:off x="1440" y="0"/>
                      <a:ext cx="9178920" cy="6858000"/>
                      <a:chOff x="1440" y="0"/>
                      <a:chExt cx="9178920" cy="6858000"/>
                    </a:xfrm>
                  </p:grpSpPr>
                  <p:sp>
                    <p:nvSpPr>
                      <p:cNvPr id="402"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3" name=""/>
                      <p:cNvGrpSpPr/>
                      <p:nvPr/>
                    </p:nvGrpSpPr>
                    <p:grpSpPr>
                      <a:xfrm>
                        <a:off x="539640" y="0"/>
                        <a:ext cx="8640720" cy="6381720"/>
                        <a:chOff x="539640" y="0"/>
                        <a:chExt cx="8640720" cy="6381720"/>
                      </a:xfrm>
                    </p:grpSpPr>
                    <p:grpSp>
                      <p:nvGrpSpPr>
                        <p:cNvPr id="404" name=""/>
                        <p:cNvGrpSpPr/>
                        <p:nvPr/>
                      </p:nvGrpSpPr>
                      <p:grpSpPr>
                        <a:xfrm>
                          <a:off x="576360" y="0"/>
                          <a:ext cx="8604000" cy="1628640"/>
                          <a:chOff x="576360" y="0"/>
                          <a:chExt cx="8604000" cy="1628640"/>
                        </a:xfrm>
                      </p:grpSpPr>
                      <p:sp>
                        <p:nvSpPr>
                          <p:cNvPr id="405"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07"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09"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10"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1" name=""/>
                    <p:cNvGrpSpPr/>
                    <p:nvPr/>
                  </p:nvGrpSpPr>
                  <p:grpSpPr>
                    <a:xfrm>
                      <a:off x="179280" y="12600"/>
                      <a:ext cx="576360" cy="6836040"/>
                      <a:chOff x="179280" y="12600"/>
                      <a:chExt cx="576360" cy="6836040"/>
                    </a:xfrm>
                  </p:grpSpPr>
                  <p:sp>
                    <p:nvSpPr>
                      <p:cNvPr id="412"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13"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14"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16"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17"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418"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419"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420"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421"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22"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24"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25"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426"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427"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28"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29"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30"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31"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432"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34"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36"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37"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38"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439"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40"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8"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99"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500"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501"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502"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04"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05" name="" descr=""/>
              <p:cNvPicPr/>
              <p:nvPr/>
            </p:nvPicPr>
            <p:blipFill>
              <a:blip r:embed="rId4"/>
              <a:stretch/>
            </p:blipFill>
            <p:spPr>
              <a:xfrm>
                <a:off x="8782200" y="27000"/>
                <a:ext cx="403200" cy="954000"/>
              </a:xfrm>
              <a:prstGeom prst="rect">
                <a:avLst/>
              </a:prstGeom>
              <a:ln w="0">
                <a:noFill/>
              </a:ln>
            </p:spPr>
          </p:pic>
        </p:grpSp>
        <p:sp>
          <p:nvSpPr>
            <p:cNvPr id="506" name="">
              <a:hlinkClick r:id="" action="ppaction://hlinkshowjump?jump=previousslide"/>
            </p:cNvPr>
            <p:cNvSpPr/>
            <p:nvPr/>
          </p:nvSpPr>
          <p:spPr>
            <a:xfrm>
              <a:off x="8244000" y="6453360"/>
              <a:ext cx="360360" cy="333360"/>
            </a:xfrm>
            <a:custGeom>
              <a:avLst/>
              <a:gdLst>
                <a:gd name="textAreaLeft" fmla="*/ 33120 w 360360"/>
                <a:gd name="textAreaRight" fmla="*/ 327240 w 360360"/>
                <a:gd name="textAreaTop" fmla="*/ 33120 h 333360"/>
                <a:gd name="textAreaBottom" fmla="*/ 30024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188" y="2160"/>
                  </a:lnTo>
                  <a:lnTo>
                    <a:pt x="2160" y="2160"/>
                  </a:lnTo>
                  <a:close/>
                </a:path>
                <a:path fill="darken" w="23348" h="21600">
                  <a:moveTo>
                    <a:pt x="23348" y="0"/>
                  </a:moveTo>
                  <a:lnTo>
                    <a:pt x="23348" y="21600"/>
                  </a:lnTo>
                  <a:lnTo>
                    <a:pt x="21188" y="19440"/>
                  </a:lnTo>
                  <a:lnTo>
                    <a:pt x="21188" y="2160"/>
                  </a:lnTo>
                  <a:close/>
                </a:path>
                <a:path fill="darkenLess" w="23348" h="21600">
                  <a:moveTo>
                    <a:pt x="23348" y="21600"/>
                  </a:moveTo>
                  <a:lnTo>
                    <a:pt x="0" y="21600"/>
                  </a:lnTo>
                  <a:lnTo>
                    <a:pt x="2160" y="19440"/>
                  </a:lnTo>
                  <a:lnTo>
                    <a:pt x="21188" y="19440"/>
                  </a:lnTo>
                  <a:close/>
                </a:path>
                <a:path fill="lighten" w="23348" h="21600">
                  <a:moveTo>
                    <a:pt x="0" y="21600"/>
                  </a:moveTo>
                  <a:lnTo>
                    <a:pt x="0" y="0"/>
                  </a:lnTo>
                  <a:lnTo>
                    <a:pt x="2160" y="2160"/>
                  </a:lnTo>
                  <a:lnTo>
                    <a:pt x="2160" y="19440"/>
                  </a:lnTo>
                  <a:close/>
                </a:path>
                <a:path fill="darken" w="23348" h="21600">
                  <a:moveTo>
                    <a:pt x="5234" y="7760"/>
                  </a:moveTo>
                  <a:lnTo>
                    <a:pt x="8458" y="7760"/>
                  </a:lnTo>
                  <a:lnTo>
                    <a:pt x="8458" y="12664"/>
                  </a:lnTo>
                  <a:cubicBezTo>
                    <a:pt x="8458" y="13512"/>
                    <a:pt x="9194" y="14184"/>
                    <a:pt x="10146" y="14184"/>
                  </a:cubicBezTo>
                  <a:lnTo>
                    <a:pt x="11674" y="14184"/>
                  </a:lnTo>
                  <a:cubicBezTo>
                    <a:pt x="12626" y="14184"/>
                    <a:pt x="13362" y="13512"/>
                    <a:pt x="13362" y="12664"/>
                  </a:cubicBezTo>
                  <a:lnTo>
                    <a:pt x="13362" y="7760"/>
                  </a:lnTo>
                  <a:lnTo>
                    <a:pt x="11674" y="7760"/>
                  </a:lnTo>
                  <a:lnTo>
                    <a:pt x="14898" y="4536"/>
                  </a:lnTo>
                  <a:lnTo>
                    <a:pt x="18274" y="7760"/>
                  </a:lnTo>
                  <a:lnTo>
                    <a:pt x="16586" y="7760"/>
                  </a:lnTo>
                  <a:lnTo>
                    <a:pt x="16586" y="12664"/>
                  </a:lnTo>
                  <a:cubicBezTo>
                    <a:pt x="16586" y="15208"/>
                    <a:pt x="14218" y="17560"/>
                    <a:pt x="11674" y="17560"/>
                  </a:cubicBezTo>
                  <a:lnTo>
                    <a:pt x="10146" y="17560"/>
                  </a:lnTo>
                  <a:cubicBezTo>
                    <a:pt x="7602" y="17560"/>
                    <a:pt x="5234" y="15208"/>
                    <a:pt x="5234" y="12664"/>
                  </a:cubicBezTo>
                  <a:close/>
                </a:path>
              </a:pathLst>
            </a:custGeom>
            <a:solidFill>
              <a:srgbClr val="f7e9a1"/>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7" name=""/>
          <p:cNvSpPr/>
          <p:nvPr/>
        </p:nvSpPr>
        <p:spPr>
          <a:xfrm>
            <a:off x="826920" y="1855800"/>
            <a:ext cx="8062920" cy="4893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ebido a que esta empresa se ha mantenido en un proceso estable, podemos definir las siguientes fechas significativa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 la década de los cincuenta se funda en Llerena (Badajoz), con denominación Construcciones Aguirre, como una constructora de obras públicas para diferentes Organismos Oficiales (Diputaciones, RENFE, promoción de viviendas de protección oficial, colegios, etc.)</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ás tarde en 1986, se crea definitivamente Obras Y Proyectos Aguirre S.L. estableciendo su sede central en Córdoba. A partir de entonces, se dedica en al acondicionamiento, adaptación y reforma, tanto parcial como integral, de locales comerciales, fundamentalmente para clientes pertenecientes al sector de la banca y de los seguro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a empresa cuenta con clientes de diferentes entidades: Argentaria, BBVA, BANCO CENTRAL HISPANO, BANCO DE COMERCIO, CAJA DE AHORROS DE BADAJOZ, etc.</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8" name=""/>
          <p:cNvSpPr txBox="1"/>
          <p:nvPr/>
        </p:nvSpPr>
        <p:spPr>
          <a:xfrm>
            <a:off x="2916360" y="1916280"/>
            <a:ext cx="38876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 1950- 1986</a:t>
            </a:r>
            <a:endParaRPr b="1" lang="en-US" sz="1800" spc="1" strike="noStrike">
              <a:ln w="0">
                <a:noFill/>
              </a:ln>
              <a:solidFill>
                <a:srgbClr val="f7e9a1"/>
              </a:solidFill>
              <a:latin typeface="BankGothic Md BT"/>
              <a:ea typeface="BankGothic Md BT"/>
            </a:endParaRPr>
          </a:p>
        </p:txBody>
      </p:sp>
      <p:sp>
        <p:nvSpPr>
          <p:cNvPr id="509" name="">
            <a:hlinkClick r:id="" action="ppaction://hlinkshowjump?jump=nextslide"/>
          </p:cNvPr>
          <p:cNvSpPr/>
          <p:nvPr/>
        </p:nvSpPr>
        <p:spPr>
          <a:xfrm>
            <a:off x="8459640" y="5516640"/>
            <a:ext cx="432000" cy="216000"/>
          </a:xfrm>
          <a:custGeom>
            <a:avLst/>
            <a:gdLst>
              <a:gd name="textAreaLeft" fmla="*/ 27000 w 432000"/>
              <a:gd name="textAreaRight" fmla="*/ 405000 w 432000"/>
              <a:gd name="textAreaTop" fmla="*/ 27000 h 216000"/>
              <a:gd name="textAreaBottom" fmla="*/ 189000 h 216000"/>
            </a:gdLst>
            <a:ahLst/>
            <a:rect l="textAreaLeft" t="textAreaTop" r="textAreaRight" b="textAreaBottom"/>
            <a:pathLst>
              <a:path w="43164" h="21600">
                <a:moveTo>
                  <a:pt x="0" y="0"/>
                </a:moveTo>
                <a:lnTo>
                  <a:pt x="43164" y="0"/>
                </a:lnTo>
                <a:lnTo>
                  <a:pt x="43164" y="21600"/>
                </a:lnTo>
                <a:lnTo>
                  <a:pt x="0" y="21600"/>
                </a:lnTo>
                <a:close/>
              </a:path>
              <a:path fill="lightenLess" w="43164" h="21600">
                <a:moveTo>
                  <a:pt x="0" y="0"/>
                </a:moveTo>
                <a:lnTo>
                  <a:pt x="43164" y="0"/>
                </a:lnTo>
                <a:lnTo>
                  <a:pt x="40464" y="2700"/>
                </a:lnTo>
                <a:lnTo>
                  <a:pt x="2700" y="2700"/>
                </a:lnTo>
                <a:close/>
              </a:path>
              <a:path fill="darken" w="43164" h="21600">
                <a:moveTo>
                  <a:pt x="43164" y="0"/>
                </a:moveTo>
                <a:lnTo>
                  <a:pt x="43164" y="21600"/>
                </a:lnTo>
                <a:lnTo>
                  <a:pt x="40464" y="18900"/>
                </a:lnTo>
                <a:lnTo>
                  <a:pt x="40464" y="2700"/>
                </a:lnTo>
                <a:close/>
              </a:path>
              <a:path fill="darkenLess" w="43164" h="21600">
                <a:moveTo>
                  <a:pt x="43164" y="21600"/>
                </a:moveTo>
                <a:lnTo>
                  <a:pt x="0" y="21600"/>
                </a:lnTo>
                <a:lnTo>
                  <a:pt x="2700" y="18900"/>
                </a:lnTo>
                <a:lnTo>
                  <a:pt x="40464" y="18900"/>
                </a:lnTo>
                <a:close/>
              </a:path>
              <a:path fill="lighten" w="43164" h="21600">
                <a:moveTo>
                  <a:pt x="0" y="21600"/>
                </a:moveTo>
                <a:lnTo>
                  <a:pt x="0" y="0"/>
                </a:lnTo>
                <a:lnTo>
                  <a:pt x="2700" y="2700"/>
                </a:lnTo>
                <a:lnTo>
                  <a:pt x="2700" y="18900"/>
                </a:lnTo>
                <a:close/>
              </a:path>
              <a:path fill="darken" w="43164" h="21600">
                <a:moveTo>
                  <a:pt x="15545" y="4763"/>
                </a:moveTo>
                <a:lnTo>
                  <a:pt x="27620" y="10800"/>
                </a:lnTo>
                <a:lnTo>
                  <a:pt x="15545" y="16838"/>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510" name=""/>
          <p:cNvGrpSpPr/>
          <p:nvPr/>
        </p:nvGrpSpPr>
        <p:grpSpPr>
          <a:xfrm>
            <a:off x="1440" y="0"/>
            <a:ext cx="9183960" cy="6886800"/>
            <a:chOff x="1440" y="0"/>
            <a:chExt cx="9183960" cy="6886800"/>
          </a:xfrm>
        </p:grpSpPr>
        <p:grpSp>
          <p:nvGrpSpPr>
            <p:cNvPr id="511" name=""/>
            <p:cNvGrpSpPr/>
            <p:nvPr/>
          </p:nvGrpSpPr>
          <p:grpSpPr>
            <a:xfrm>
              <a:off x="1440" y="0"/>
              <a:ext cx="9183960" cy="6886800"/>
              <a:chOff x="1440" y="0"/>
              <a:chExt cx="9183960" cy="6886800"/>
            </a:xfrm>
          </p:grpSpPr>
          <p:grpSp>
            <p:nvGrpSpPr>
              <p:cNvPr id="512" name=""/>
              <p:cNvGrpSpPr/>
              <p:nvPr/>
            </p:nvGrpSpPr>
            <p:grpSpPr>
              <a:xfrm>
                <a:off x="1440" y="0"/>
                <a:ext cx="9178920" cy="6886800"/>
                <a:chOff x="1440" y="0"/>
                <a:chExt cx="9178920" cy="6886800"/>
              </a:xfrm>
            </p:grpSpPr>
            <p:grpSp>
              <p:nvGrpSpPr>
                <p:cNvPr id="513" name=""/>
                <p:cNvGrpSpPr/>
                <p:nvPr/>
              </p:nvGrpSpPr>
              <p:grpSpPr>
                <a:xfrm>
                  <a:off x="1440" y="0"/>
                  <a:ext cx="9178920" cy="6886800"/>
                  <a:chOff x="1440" y="0"/>
                  <a:chExt cx="9178920" cy="6886800"/>
                </a:xfrm>
              </p:grpSpPr>
              <p:grpSp>
                <p:nvGrpSpPr>
                  <p:cNvPr id="514" name=""/>
                  <p:cNvGrpSpPr/>
                  <p:nvPr/>
                </p:nvGrpSpPr>
                <p:grpSpPr>
                  <a:xfrm>
                    <a:off x="1440" y="0"/>
                    <a:ext cx="9178920" cy="6886800"/>
                    <a:chOff x="1440" y="0"/>
                    <a:chExt cx="9178920" cy="6886800"/>
                  </a:xfrm>
                </p:grpSpPr>
                <p:grpSp>
                  <p:nvGrpSpPr>
                    <p:cNvPr id="515" name=""/>
                    <p:cNvGrpSpPr/>
                    <p:nvPr/>
                  </p:nvGrpSpPr>
                  <p:grpSpPr>
                    <a:xfrm>
                      <a:off x="1440" y="0"/>
                      <a:ext cx="9178920" cy="6858000"/>
                      <a:chOff x="1440" y="0"/>
                      <a:chExt cx="9178920" cy="6858000"/>
                    </a:xfrm>
                  </p:grpSpPr>
                  <p:sp>
                    <p:nvSpPr>
                      <p:cNvPr id="516"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17" name=""/>
                      <p:cNvGrpSpPr/>
                      <p:nvPr/>
                    </p:nvGrpSpPr>
                    <p:grpSpPr>
                      <a:xfrm>
                        <a:off x="539640" y="0"/>
                        <a:ext cx="8640720" cy="6381720"/>
                        <a:chOff x="539640" y="0"/>
                        <a:chExt cx="8640720" cy="6381720"/>
                      </a:xfrm>
                    </p:grpSpPr>
                    <p:grpSp>
                      <p:nvGrpSpPr>
                        <p:cNvPr id="518" name=""/>
                        <p:cNvGrpSpPr/>
                        <p:nvPr/>
                      </p:nvGrpSpPr>
                      <p:grpSpPr>
                        <a:xfrm>
                          <a:off x="576360" y="0"/>
                          <a:ext cx="8604000" cy="1628640"/>
                          <a:chOff x="576360" y="0"/>
                          <a:chExt cx="8604000" cy="1628640"/>
                        </a:xfrm>
                      </p:grpSpPr>
                      <p:sp>
                        <p:nvSpPr>
                          <p:cNvPr id="519"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21"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23"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24"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5" name=""/>
                    <p:cNvGrpSpPr/>
                    <p:nvPr/>
                  </p:nvGrpSpPr>
                  <p:grpSpPr>
                    <a:xfrm>
                      <a:off x="179280" y="12600"/>
                      <a:ext cx="576360" cy="6836040"/>
                      <a:chOff x="179280" y="12600"/>
                      <a:chExt cx="576360" cy="6836040"/>
                    </a:xfrm>
                  </p:grpSpPr>
                  <p:sp>
                    <p:nvSpPr>
                      <p:cNvPr id="526"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27"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28"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30"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31"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532"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533"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534"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535"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36"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38"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39"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540"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541"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42"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43"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44"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45"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546"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48"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50"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51"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52"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553"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54"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2"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13"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14"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15"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16"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18"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619" name="" descr=""/>
              <p:cNvPicPr/>
              <p:nvPr/>
            </p:nvPicPr>
            <p:blipFill>
              <a:blip r:embed="rId4"/>
              <a:stretch/>
            </p:blipFill>
            <p:spPr>
              <a:xfrm>
                <a:off x="8782200" y="27000"/>
                <a:ext cx="403200" cy="954000"/>
              </a:xfrm>
              <a:prstGeom prst="rect">
                <a:avLst/>
              </a:prstGeom>
              <a:ln w="0">
                <a:noFill/>
              </a:ln>
            </p:spPr>
          </p:pic>
        </p:grpSp>
        <p:sp>
          <p:nvSpPr>
            <p:cNvPr id="620" name="">
              <a:hlinkClick r:id="" action="ppaction://hlinkshowjump?jump=previousslide"/>
            </p:cNvPr>
            <p:cNvSpPr/>
            <p:nvPr/>
          </p:nvSpPr>
          <p:spPr>
            <a:xfrm>
              <a:off x="8244000" y="6453360"/>
              <a:ext cx="360360" cy="333360"/>
            </a:xfrm>
            <a:custGeom>
              <a:avLst/>
              <a:gdLst>
                <a:gd name="textAreaLeft" fmla="*/ 33120 w 360360"/>
                <a:gd name="textAreaRight" fmla="*/ 327240 w 360360"/>
                <a:gd name="textAreaTop" fmla="*/ 33120 h 333360"/>
                <a:gd name="textAreaBottom" fmla="*/ 30024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188" y="2160"/>
                  </a:lnTo>
                  <a:lnTo>
                    <a:pt x="2160" y="2160"/>
                  </a:lnTo>
                  <a:close/>
                </a:path>
                <a:path fill="darken" w="23348" h="21600">
                  <a:moveTo>
                    <a:pt x="23348" y="0"/>
                  </a:moveTo>
                  <a:lnTo>
                    <a:pt x="23348" y="21600"/>
                  </a:lnTo>
                  <a:lnTo>
                    <a:pt x="21188" y="19440"/>
                  </a:lnTo>
                  <a:lnTo>
                    <a:pt x="21188" y="2160"/>
                  </a:lnTo>
                  <a:close/>
                </a:path>
                <a:path fill="darkenLess" w="23348" h="21600">
                  <a:moveTo>
                    <a:pt x="23348" y="21600"/>
                  </a:moveTo>
                  <a:lnTo>
                    <a:pt x="0" y="21600"/>
                  </a:lnTo>
                  <a:lnTo>
                    <a:pt x="2160" y="19440"/>
                  </a:lnTo>
                  <a:lnTo>
                    <a:pt x="21188" y="19440"/>
                  </a:lnTo>
                  <a:close/>
                </a:path>
                <a:path fill="lighten" w="23348" h="21600">
                  <a:moveTo>
                    <a:pt x="0" y="21600"/>
                  </a:moveTo>
                  <a:lnTo>
                    <a:pt x="0" y="0"/>
                  </a:lnTo>
                  <a:lnTo>
                    <a:pt x="2160" y="2160"/>
                  </a:lnTo>
                  <a:lnTo>
                    <a:pt x="2160" y="19440"/>
                  </a:lnTo>
                  <a:close/>
                </a:path>
                <a:path fill="darken" w="23348" h="21600">
                  <a:moveTo>
                    <a:pt x="5234" y="7760"/>
                  </a:moveTo>
                  <a:lnTo>
                    <a:pt x="8458" y="7760"/>
                  </a:lnTo>
                  <a:lnTo>
                    <a:pt x="8458" y="12664"/>
                  </a:lnTo>
                  <a:cubicBezTo>
                    <a:pt x="8458" y="13512"/>
                    <a:pt x="9194" y="14184"/>
                    <a:pt x="10146" y="14184"/>
                  </a:cubicBezTo>
                  <a:lnTo>
                    <a:pt x="11674" y="14184"/>
                  </a:lnTo>
                  <a:cubicBezTo>
                    <a:pt x="12626" y="14184"/>
                    <a:pt x="13362" y="13512"/>
                    <a:pt x="13362" y="12664"/>
                  </a:cubicBezTo>
                  <a:lnTo>
                    <a:pt x="13362" y="7760"/>
                  </a:lnTo>
                  <a:lnTo>
                    <a:pt x="11674" y="7760"/>
                  </a:lnTo>
                  <a:lnTo>
                    <a:pt x="14898" y="4536"/>
                  </a:lnTo>
                  <a:lnTo>
                    <a:pt x="18274" y="7760"/>
                  </a:lnTo>
                  <a:lnTo>
                    <a:pt x="16586" y="7760"/>
                  </a:lnTo>
                  <a:lnTo>
                    <a:pt x="16586" y="12664"/>
                  </a:lnTo>
                  <a:cubicBezTo>
                    <a:pt x="16586" y="15208"/>
                    <a:pt x="14218" y="17560"/>
                    <a:pt x="11674" y="17560"/>
                  </a:cubicBezTo>
                  <a:lnTo>
                    <a:pt x="10146" y="17560"/>
                  </a:lnTo>
                  <a:cubicBezTo>
                    <a:pt x="7602" y="17560"/>
                    <a:pt x="5234" y="15208"/>
                    <a:pt x="5234" y="12664"/>
                  </a:cubicBezTo>
                  <a:close/>
                </a:path>
              </a:pathLst>
            </a:custGeom>
            <a:solidFill>
              <a:srgbClr val="f7e9a1"/>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1" name=""/>
          <p:cNvSpPr/>
          <p:nvPr/>
        </p:nvSpPr>
        <p:spPr>
          <a:xfrm>
            <a:off x="900000" y="1844640"/>
            <a:ext cx="8062920" cy="4358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Febrero de 2005 debido a la consecución de los objetivos, la empresa implantó un Sistema de Calidad según la Norma UNE-EN-ISO 9001:2000, siendo auditado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 lo que Obras y Proyecto Aguirre, a lo largo de todo este tiempo, se ha convertido en toda una referencia de su segmento, siendo capaz de aportar a sus clientes soluciones integrales para que la puesta en marcha de una nueva oficina o negocio no sea un problem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o hace de OYPA una empresa fuerte dentro del sector de la construcció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urante su vida, OYPA, a realizado más de cuatrocientas obras, entre ellas las sedes centrales de importantes entidades bancarias y de ahorro de Andalucía, así como más de mil reformas e instalaciones de cajeros automáticos, etc.</a:t>
            </a:r>
            <a:endParaRPr b="0" lang="en-US" sz="16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2" name=""/>
          <p:cNvSpPr txBox="1"/>
          <p:nvPr/>
        </p:nvSpPr>
        <p:spPr>
          <a:xfrm>
            <a:off x="3132000" y="1989000"/>
            <a:ext cx="360072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 2005-2009</a:t>
            </a:r>
            <a:endParaRPr b="1" lang="en-US" sz="1800" spc="1" strike="noStrike">
              <a:ln w="0">
                <a:noFill/>
              </a:ln>
              <a:solidFill>
                <a:srgbClr val="f7e9a1"/>
              </a:solidFill>
              <a:latin typeface="BankGothic Md BT"/>
              <a:ea typeface="BankGothic Md BT"/>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623" name=""/>
          <p:cNvGrpSpPr/>
          <p:nvPr/>
        </p:nvGrpSpPr>
        <p:grpSpPr>
          <a:xfrm>
            <a:off x="1440" y="0"/>
            <a:ext cx="9183960" cy="6886800"/>
            <a:chOff x="1440" y="0"/>
            <a:chExt cx="9183960" cy="6886800"/>
          </a:xfrm>
        </p:grpSpPr>
        <p:grpSp>
          <p:nvGrpSpPr>
            <p:cNvPr id="624" name=""/>
            <p:cNvGrpSpPr/>
            <p:nvPr/>
          </p:nvGrpSpPr>
          <p:grpSpPr>
            <a:xfrm>
              <a:off x="1440" y="0"/>
              <a:ext cx="9183960" cy="6886800"/>
              <a:chOff x="1440" y="0"/>
              <a:chExt cx="9183960" cy="6886800"/>
            </a:xfrm>
          </p:grpSpPr>
          <p:grpSp>
            <p:nvGrpSpPr>
              <p:cNvPr id="625" name=""/>
              <p:cNvGrpSpPr/>
              <p:nvPr/>
            </p:nvGrpSpPr>
            <p:grpSpPr>
              <a:xfrm>
                <a:off x="1440" y="0"/>
                <a:ext cx="9178920" cy="6886800"/>
                <a:chOff x="1440" y="0"/>
                <a:chExt cx="9178920" cy="6886800"/>
              </a:xfrm>
            </p:grpSpPr>
            <p:grpSp>
              <p:nvGrpSpPr>
                <p:cNvPr id="626" name=""/>
                <p:cNvGrpSpPr/>
                <p:nvPr/>
              </p:nvGrpSpPr>
              <p:grpSpPr>
                <a:xfrm>
                  <a:off x="1440" y="0"/>
                  <a:ext cx="9178920" cy="6886800"/>
                  <a:chOff x="1440" y="0"/>
                  <a:chExt cx="9178920" cy="6886800"/>
                </a:xfrm>
              </p:grpSpPr>
              <p:grpSp>
                <p:nvGrpSpPr>
                  <p:cNvPr id="627" name=""/>
                  <p:cNvGrpSpPr/>
                  <p:nvPr/>
                </p:nvGrpSpPr>
                <p:grpSpPr>
                  <a:xfrm>
                    <a:off x="1440" y="0"/>
                    <a:ext cx="9178920" cy="6886800"/>
                    <a:chOff x="1440" y="0"/>
                    <a:chExt cx="9178920" cy="6886800"/>
                  </a:xfrm>
                </p:grpSpPr>
                <p:grpSp>
                  <p:nvGrpSpPr>
                    <p:cNvPr id="628" name=""/>
                    <p:cNvGrpSpPr/>
                    <p:nvPr/>
                  </p:nvGrpSpPr>
                  <p:grpSpPr>
                    <a:xfrm>
                      <a:off x="1440" y="0"/>
                      <a:ext cx="9178920" cy="6858000"/>
                      <a:chOff x="1440" y="0"/>
                      <a:chExt cx="9178920" cy="6858000"/>
                    </a:xfrm>
                  </p:grpSpPr>
                  <p:sp>
                    <p:nvSpPr>
                      <p:cNvPr id="629"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0" name=""/>
                      <p:cNvGrpSpPr/>
                      <p:nvPr/>
                    </p:nvGrpSpPr>
                    <p:grpSpPr>
                      <a:xfrm>
                        <a:off x="539640" y="0"/>
                        <a:ext cx="8640720" cy="6381720"/>
                        <a:chOff x="539640" y="0"/>
                        <a:chExt cx="8640720" cy="6381720"/>
                      </a:xfrm>
                    </p:grpSpPr>
                    <p:grpSp>
                      <p:nvGrpSpPr>
                        <p:cNvPr id="631" name=""/>
                        <p:cNvGrpSpPr/>
                        <p:nvPr/>
                      </p:nvGrpSpPr>
                      <p:grpSpPr>
                        <a:xfrm>
                          <a:off x="576360" y="0"/>
                          <a:ext cx="8604000" cy="1628640"/>
                          <a:chOff x="576360" y="0"/>
                          <a:chExt cx="8604000" cy="1628640"/>
                        </a:xfrm>
                      </p:grpSpPr>
                      <p:sp>
                        <p:nvSpPr>
                          <p:cNvPr id="632"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634"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36"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37"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8" name=""/>
                    <p:cNvGrpSpPr/>
                    <p:nvPr/>
                  </p:nvGrpSpPr>
                  <p:grpSpPr>
                    <a:xfrm>
                      <a:off x="179280" y="12600"/>
                      <a:ext cx="576360" cy="6836040"/>
                      <a:chOff x="179280" y="12600"/>
                      <a:chExt cx="576360" cy="6836040"/>
                    </a:xfrm>
                  </p:grpSpPr>
                  <p:sp>
                    <p:nvSpPr>
                      <p:cNvPr id="639"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40"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41"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43"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44"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645"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646"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647"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648"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49"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51"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52"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653"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654"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55"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56"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57"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58"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659"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61"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63"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64"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65"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666"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67"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5"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726"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727"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728"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729"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31"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732" name="" descr=""/>
              <p:cNvPicPr/>
              <p:nvPr/>
            </p:nvPicPr>
            <p:blipFill>
              <a:blip r:embed="rId4"/>
              <a:stretch/>
            </p:blipFill>
            <p:spPr>
              <a:xfrm>
                <a:off x="8782200" y="27000"/>
                <a:ext cx="403200" cy="954000"/>
              </a:xfrm>
              <a:prstGeom prst="rect">
                <a:avLst/>
              </a:prstGeom>
              <a:ln w="0">
                <a:noFill/>
              </a:ln>
            </p:spPr>
          </p:pic>
        </p:grpSp>
        <p:sp>
          <p:nvSpPr>
            <p:cNvPr id="733" name=""/>
            <p:cNvSpPr/>
            <p:nvPr/>
          </p:nvSpPr>
          <p:spPr>
            <a:xfrm>
              <a:off x="8244000" y="6453360"/>
              <a:ext cx="360360" cy="333360"/>
            </a:xfrm>
            <a:custGeom>
              <a:avLst/>
              <a:gdLst>
                <a:gd name="textAreaLeft" fmla="*/ 33120 w 360360"/>
                <a:gd name="textAreaRight" fmla="*/ 327240 w 360360"/>
                <a:gd name="textAreaTop" fmla="*/ 33120 h 333360"/>
                <a:gd name="textAreaBottom" fmla="*/ 30024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188" y="2160"/>
                  </a:lnTo>
                  <a:lnTo>
                    <a:pt x="2160" y="2160"/>
                  </a:lnTo>
                  <a:close/>
                </a:path>
                <a:path fill="darken" w="23348" h="21600">
                  <a:moveTo>
                    <a:pt x="23348" y="0"/>
                  </a:moveTo>
                  <a:lnTo>
                    <a:pt x="23348" y="21600"/>
                  </a:lnTo>
                  <a:lnTo>
                    <a:pt x="21188" y="19440"/>
                  </a:lnTo>
                  <a:lnTo>
                    <a:pt x="21188" y="2160"/>
                  </a:lnTo>
                  <a:close/>
                </a:path>
                <a:path fill="darkenLess" w="23348" h="21600">
                  <a:moveTo>
                    <a:pt x="23348" y="21600"/>
                  </a:moveTo>
                  <a:lnTo>
                    <a:pt x="0" y="21600"/>
                  </a:lnTo>
                  <a:lnTo>
                    <a:pt x="2160" y="19440"/>
                  </a:lnTo>
                  <a:lnTo>
                    <a:pt x="21188" y="19440"/>
                  </a:lnTo>
                  <a:close/>
                </a:path>
                <a:path fill="lighten" w="23348" h="21600">
                  <a:moveTo>
                    <a:pt x="0" y="21600"/>
                  </a:moveTo>
                  <a:lnTo>
                    <a:pt x="0" y="0"/>
                  </a:lnTo>
                  <a:lnTo>
                    <a:pt x="2160" y="2160"/>
                  </a:lnTo>
                  <a:lnTo>
                    <a:pt x="2160" y="19440"/>
                  </a:lnTo>
                  <a:close/>
                </a:path>
                <a:path fill="darken" w="23348" h="21600">
                  <a:moveTo>
                    <a:pt x="5234" y="7760"/>
                  </a:moveTo>
                  <a:lnTo>
                    <a:pt x="8458" y="7760"/>
                  </a:lnTo>
                  <a:lnTo>
                    <a:pt x="8458" y="12664"/>
                  </a:lnTo>
                  <a:cubicBezTo>
                    <a:pt x="8458" y="13512"/>
                    <a:pt x="9194" y="14184"/>
                    <a:pt x="10146" y="14184"/>
                  </a:cubicBezTo>
                  <a:lnTo>
                    <a:pt x="11674" y="14184"/>
                  </a:lnTo>
                  <a:cubicBezTo>
                    <a:pt x="12626" y="14184"/>
                    <a:pt x="13362" y="13512"/>
                    <a:pt x="13362" y="12664"/>
                  </a:cubicBezTo>
                  <a:lnTo>
                    <a:pt x="13362" y="7760"/>
                  </a:lnTo>
                  <a:lnTo>
                    <a:pt x="11674" y="7760"/>
                  </a:lnTo>
                  <a:lnTo>
                    <a:pt x="14898" y="4536"/>
                  </a:lnTo>
                  <a:lnTo>
                    <a:pt x="18274" y="7760"/>
                  </a:lnTo>
                  <a:lnTo>
                    <a:pt x="16586" y="7760"/>
                  </a:lnTo>
                  <a:lnTo>
                    <a:pt x="16586" y="12664"/>
                  </a:lnTo>
                  <a:cubicBezTo>
                    <a:pt x="16586" y="15208"/>
                    <a:pt x="14218" y="17560"/>
                    <a:pt x="11674" y="17560"/>
                  </a:cubicBezTo>
                  <a:lnTo>
                    <a:pt x="10146" y="17560"/>
                  </a:lnTo>
                  <a:cubicBezTo>
                    <a:pt x="7602" y="17560"/>
                    <a:pt x="5234" y="15208"/>
                    <a:pt x="5234" y="12664"/>
                  </a:cubicBezTo>
                  <a:close/>
                </a:path>
              </a:pathLst>
            </a:custGeom>
            <a:solidFill>
              <a:srgbClr val="f7e9a1"/>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4" name=""/>
          <p:cNvSpPr/>
          <p:nvPr/>
        </p:nvSpPr>
        <p:spPr>
          <a:xfrm>
            <a:off x="900000" y="198900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txBox="1"/>
          <p:nvPr/>
        </p:nvSpPr>
        <p:spPr>
          <a:xfrm>
            <a:off x="3973680" y="1989000"/>
            <a:ext cx="29034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ACTIVIDADES</a:t>
            </a:r>
            <a:endParaRPr b="1" lang="en-US" sz="1800" spc="1" strike="noStrike">
              <a:ln w="0">
                <a:noFill/>
              </a:ln>
              <a:solidFill>
                <a:srgbClr val="f7e9a1"/>
              </a:solidFill>
              <a:latin typeface="BankGothic Md BT"/>
              <a:ea typeface="BankGothic Md BT"/>
            </a:endParaRPr>
          </a:p>
        </p:txBody>
      </p:sp>
      <p:sp>
        <p:nvSpPr>
          <p:cNvPr id="736" name=""/>
          <p:cNvSpPr/>
          <p:nvPr/>
        </p:nvSpPr>
        <p:spPr>
          <a:xfrm>
            <a:off x="1403280" y="2492280"/>
            <a:ext cx="7272360" cy="4957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Instalaciones menor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ajas nocturn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tuaciones menores puntuales         Redes informátic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egur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decuación de locales comerci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Oficin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randes obras       Sedes centr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aves industri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dificios de nueva construcción</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5148360" y="2637000"/>
            <a:ext cx="71280" cy="1584000"/>
          </a:xfrm>
          <a:custGeom>
            <a:avLst/>
            <a:gdLst>
              <a:gd name="textAreaLeft" fmla="*/ 45720 w 71280"/>
              <a:gd name="textAreaRight" fmla="*/ 71640 w 71280"/>
              <a:gd name="textAreaTop" fmla="*/ 41040 h 1584000"/>
              <a:gd name="textAreaBottom" fmla="*/ 1542960 h 158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3348000" y="4149720"/>
            <a:ext cx="71640" cy="1943280"/>
          </a:xfrm>
          <a:custGeom>
            <a:avLst/>
            <a:gdLst>
              <a:gd name="textAreaLeft" fmla="*/ 45720 w 71640"/>
              <a:gd name="textAreaRight" fmla="*/ 72000 w 71640"/>
              <a:gd name="textAreaTop" fmla="*/ 50400 h 1943280"/>
              <a:gd name="textAreaBottom" fmla="*/ 1892880 h 194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739" name=""/>
          <p:cNvGrpSpPr/>
          <p:nvPr/>
        </p:nvGrpSpPr>
        <p:grpSpPr>
          <a:xfrm>
            <a:off x="1440" y="0"/>
            <a:ext cx="9183960" cy="6886800"/>
            <a:chOff x="1440" y="0"/>
            <a:chExt cx="9183960" cy="6886800"/>
          </a:xfrm>
        </p:grpSpPr>
        <p:grpSp>
          <p:nvGrpSpPr>
            <p:cNvPr id="740" name=""/>
            <p:cNvGrpSpPr/>
            <p:nvPr/>
          </p:nvGrpSpPr>
          <p:grpSpPr>
            <a:xfrm>
              <a:off x="1440" y="0"/>
              <a:ext cx="9183960" cy="6886800"/>
              <a:chOff x="1440" y="0"/>
              <a:chExt cx="9183960" cy="6886800"/>
            </a:xfrm>
          </p:grpSpPr>
          <p:grpSp>
            <p:nvGrpSpPr>
              <p:cNvPr id="741" name=""/>
              <p:cNvGrpSpPr/>
              <p:nvPr/>
            </p:nvGrpSpPr>
            <p:grpSpPr>
              <a:xfrm>
                <a:off x="1440" y="0"/>
                <a:ext cx="9178920" cy="6886800"/>
                <a:chOff x="1440" y="0"/>
                <a:chExt cx="9178920" cy="6886800"/>
              </a:xfrm>
            </p:grpSpPr>
            <p:grpSp>
              <p:nvGrpSpPr>
                <p:cNvPr id="742" name=""/>
                <p:cNvGrpSpPr/>
                <p:nvPr/>
              </p:nvGrpSpPr>
              <p:grpSpPr>
                <a:xfrm>
                  <a:off x="1440" y="0"/>
                  <a:ext cx="9178920" cy="6886800"/>
                  <a:chOff x="1440" y="0"/>
                  <a:chExt cx="9178920" cy="6886800"/>
                </a:xfrm>
              </p:grpSpPr>
              <p:grpSp>
                <p:nvGrpSpPr>
                  <p:cNvPr id="743" name=""/>
                  <p:cNvGrpSpPr/>
                  <p:nvPr/>
                </p:nvGrpSpPr>
                <p:grpSpPr>
                  <a:xfrm>
                    <a:off x="1440" y="0"/>
                    <a:ext cx="9178920" cy="6886800"/>
                    <a:chOff x="1440" y="0"/>
                    <a:chExt cx="9178920" cy="6886800"/>
                  </a:xfrm>
                </p:grpSpPr>
                <p:grpSp>
                  <p:nvGrpSpPr>
                    <p:cNvPr id="744" name=""/>
                    <p:cNvGrpSpPr/>
                    <p:nvPr/>
                  </p:nvGrpSpPr>
                  <p:grpSpPr>
                    <a:xfrm>
                      <a:off x="1440" y="0"/>
                      <a:ext cx="9178920" cy="6858000"/>
                      <a:chOff x="1440" y="0"/>
                      <a:chExt cx="9178920" cy="6858000"/>
                    </a:xfrm>
                  </p:grpSpPr>
                  <p:sp>
                    <p:nvSpPr>
                      <p:cNvPr id="745"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46" name=""/>
                      <p:cNvGrpSpPr/>
                      <p:nvPr/>
                    </p:nvGrpSpPr>
                    <p:grpSpPr>
                      <a:xfrm>
                        <a:off x="539640" y="0"/>
                        <a:ext cx="8640720" cy="6381720"/>
                        <a:chOff x="539640" y="0"/>
                        <a:chExt cx="8640720" cy="6381720"/>
                      </a:xfrm>
                    </p:grpSpPr>
                    <p:grpSp>
                      <p:nvGrpSpPr>
                        <p:cNvPr id="747" name=""/>
                        <p:cNvGrpSpPr/>
                        <p:nvPr/>
                      </p:nvGrpSpPr>
                      <p:grpSpPr>
                        <a:xfrm>
                          <a:off x="576360" y="0"/>
                          <a:ext cx="8604000" cy="1628640"/>
                          <a:chOff x="576360" y="0"/>
                          <a:chExt cx="8604000" cy="1628640"/>
                        </a:xfrm>
                      </p:grpSpPr>
                      <p:sp>
                        <p:nvSpPr>
                          <p:cNvPr id="748"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750"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52"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753"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54" name=""/>
                    <p:cNvGrpSpPr/>
                    <p:nvPr/>
                  </p:nvGrpSpPr>
                  <p:grpSpPr>
                    <a:xfrm>
                      <a:off x="179280" y="12600"/>
                      <a:ext cx="576360" cy="6836040"/>
                      <a:chOff x="179280" y="12600"/>
                      <a:chExt cx="576360" cy="6836040"/>
                    </a:xfrm>
                  </p:grpSpPr>
                  <p:sp>
                    <p:nvSpPr>
                      <p:cNvPr id="755"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756"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757"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59"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60"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761"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762"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763"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764"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765"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767"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768"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769"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770"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771"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72"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773"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74"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775"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77"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779"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780"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81"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782"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783"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1"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842"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843"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844"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845"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47"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848" name="" descr=""/>
              <p:cNvPicPr/>
              <p:nvPr/>
            </p:nvPicPr>
            <p:blipFill>
              <a:blip r:embed="rId4"/>
              <a:stretch/>
            </p:blipFill>
            <p:spPr>
              <a:xfrm>
                <a:off x="8782200" y="27000"/>
                <a:ext cx="403200" cy="954000"/>
              </a:xfrm>
              <a:prstGeom prst="rect">
                <a:avLst/>
              </a:prstGeom>
              <a:ln w="0">
                <a:noFill/>
              </a:ln>
            </p:spPr>
          </p:pic>
        </p:grpSp>
        <p:sp>
          <p:nvSpPr>
            <p:cNvPr id="849" name=""/>
            <p:cNvSpPr/>
            <p:nvPr/>
          </p:nvSpPr>
          <p:spPr>
            <a:xfrm>
              <a:off x="8244000" y="6453360"/>
              <a:ext cx="360360" cy="333360"/>
            </a:xfrm>
            <a:custGeom>
              <a:avLst/>
              <a:gdLst>
                <a:gd name="textAreaLeft" fmla="*/ 33120 w 360360"/>
                <a:gd name="textAreaRight" fmla="*/ 327240 w 360360"/>
                <a:gd name="textAreaTop" fmla="*/ 33120 h 333360"/>
                <a:gd name="textAreaBottom" fmla="*/ 30024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188" y="2160"/>
                  </a:lnTo>
                  <a:lnTo>
                    <a:pt x="2160" y="2160"/>
                  </a:lnTo>
                  <a:close/>
                </a:path>
                <a:path fill="darken" w="23348" h="21600">
                  <a:moveTo>
                    <a:pt x="23348" y="0"/>
                  </a:moveTo>
                  <a:lnTo>
                    <a:pt x="23348" y="21600"/>
                  </a:lnTo>
                  <a:lnTo>
                    <a:pt x="21188" y="19440"/>
                  </a:lnTo>
                  <a:lnTo>
                    <a:pt x="21188" y="2160"/>
                  </a:lnTo>
                  <a:close/>
                </a:path>
                <a:path fill="darkenLess" w="23348" h="21600">
                  <a:moveTo>
                    <a:pt x="23348" y="21600"/>
                  </a:moveTo>
                  <a:lnTo>
                    <a:pt x="0" y="21600"/>
                  </a:lnTo>
                  <a:lnTo>
                    <a:pt x="2160" y="19440"/>
                  </a:lnTo>
                  <a:lnTo>
                    <a:pt x="21188" y="19440"/>
                  </a:lnTo>
                  <a:close/>
                </a:path>
                <a:path fill="lighten" w="23348" h="21600">
                  <a:moveTo>
                    <a:pt x="0" y="21600"/>
                  </a:moveTo>
                  <a:lnTo>
                    <a:pt x="0" y="0"/>
                  </a:lnTo>
                  <a:lnTo>
                    <a:pt x="2160" y="2160"/>
                  </a:lnTo>
                  <a:lnTo>
                    <a:pt x="2160" y="19440"/>
                  </a:lnTo>
                  <a:close/>
                </a:path>
                <a:path fill="darken" w="23348" h="21600">
                  <a:moveTo>
                    <a:pt x="5234" y="7760"/>
                  </a:moveTo>
                  <a:lnTo>
                    <a:pt x="8458" y="7760"/>
                  </a:lnTo>
                  <a:lnTo>
                    <a:pt x="8458" y="12664"/>
                  </a:lnTo>
                  <a:cubicBezTo>
                    <a:pt x="8458" y="13512"/>
                    <a:pt x="9194" y="14184"/>
                    <a:pt x="10146" y="14184"/>
                  </a:cubicBezTo>
                  <a:lnTo>
                    <a:pt x="11674" y="14184"/>
                  </a:lnTo>
                  <a:cubicBezTo>
                    <a:pt x="12626" y="14184"/>
                    <a:pt x="13362" y="13512"/>
                    <a:pt x="13362" y="12664"/>
                  </a:cubicBezTo>
                  <a:lnTo>
                    <a:pt x="13362" y="7760"/>
                  </a:lnTo>
                  <a:lnTo>
                    <a:pt x="11674" y="7760"/>
                  </a:lnTo>
                  <a:lnTo>
                    <a:pt x="14898" y="4536"/>
                  </a:lnTo>
                  <a:lnTo>
                    <a:pt x="18274" y="7760"/>
                  </a:lnTo>
                  <a:lnTo>
                    <a:pt x="16586" y="7760"/>
                  </a:lnTo>
                  <a:lnTo>
                    <a:pt x="16586" y="12664"/>
                  </a:lnTo>
                  <a:cubicBezTo>
                    <a:pt x="16586" y="15208"/>
                    <a:pt x="14218" y="17560"/>
                    <a:pt x="11674" y="17560"/>
                  </a:cubicBezTo>
                  <a:lnTo>
                    <a:pt x="10146" y="17560"/>
                  </a:lnTo>
                  <a:cubicBezTo>
                    <a:pt x="7602" y="17560"/>
                    <a:pt x="5234" y="15208"/>
                    <a:pt x="5234" y="12664"/>
                  </a:cubicBezTo>
                  <a:close/>
                </a:path>
              </a:pathLst>
            </a:custGeom>
            <a:solidFill>
              <a:srgbClr val="f7e9a1"/>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0" name="PlaceHolder 1"/>
          <p:cNvSpPr>
            <a:spLocks noGrp="1"/>
          </p:cNvSpPr>
          <p:nvPr>
            <p:ph/>
          </p:nvPr>
        </p:nvSpPr>
        <p:spPr>
          <a:xfrm>
            <a:off x="4354560" y="2636640"/>
            <a:ext cx="4178160" cy="48956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da obra que realiza OYPA, tiene un gestor técnico y un encargado adjudicado. Estos están encargados de la planificación administrativa el primero,  y de la ejecución de la obra el segundo. Y todo ello supervisado por un jefe de obr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 realizan comunicaciones quincenales a la propiedad y a la dirección técnica de la obra, mediante gráficos y fotografías, y si procediese, algunas más observaciones de la situación de la mism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 aplica de forma estricta el Control de Calidad, lo que conlleva la realización de puntos de inspección internos de las obra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1" name=""/>
          <p:cNvSpPr txBox="1"/>
          <p:nvPr/>
        </p:nvSpPr>
        <p:spPr>
          <a:xfrm>
            <a:off x="4716360" y="1989000"/>
            <a:ext cx="369576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DIFERENCIACIÓN</a:t>
            </a:r>
            <a:endParaRPr b="1" lang="en-US" sz="1800" spc="1" strike="noStrike">
              <a:ln w="0">
                <a:noFill/>
              </a:ln>
              <a:solidFill>
                <a:srgbClr val="f7e9a1"/>
              </a:solidFill>
              <a:latin typeface="BankGothic Md BT"/>
              <a:ea typeface="BankGothic Md BT"/>
            </a:endParaRPr>
          </a:p>
        </p:txBody>
      </p:sp>
      <p:pic>
        <p:nvPicPr>
          <p:cNvPr id="852" name="" descr="Fotografía de obra"/>
          <p:cNvPicPr/>
          <p:nvPr/>
        </p:nvPicPr>
        <p:blipFill>
          <a:blip r:embed="rId5"/>
          <a:stretch/>
        </p:blipFill>
        <p:spPr>
          <a:xfrm>
            <a:off x="2039760" y="3978360"/>
            <a:ext cx="2532240" cy="1898640"/>
          </a:xfrm>
          <a:prstGeom prst="rect">
            <a:avLst/>
          </a:prstGeom>
          <a:ln w="76320">
            <a:solidFill>
              <a:srgbClr val="ffff00"/>
            </a:solidFill>
            <a:miter/>
          </a:ln>
        </p:spPr>
      </p:pic>
      <p:pic>
        <p:nvPicPr>
          <p:cNvPr id="853" name="" descr="Fotografía de obra"/>
          <p:cNvPicPr/>
          <p:nvPr/>
        </p:nvPicPr>
        <p:blipFill>
          <a:blip r:embed="rId6"/>
          <a:stretch/>
        </p:blipFill>
        <p:spPr>
          <a:xfrm>
            <a:off x="1330200" y="2184480"/>
            <a:ext cx="2521080" cy="1892160"/>
          </a:xfrm>
          <a:prstGeom prst="rect">
            <a:avLst/>
          </a:prstGeom>
          <a:ln w="76320">
            <a:solidFill>
              <a:srgbClr val="ffff00"/>
            </a:solidFill>
            <a:miter/>
          </a:ln>
        </p:spPr>
      </p:pic>
      <p:sp>
        <p:nvSpPr>
          <p:cNvPr id="854" name=""/>
          <p:cNvSpPr/>
          <p:nvPr/>
        </p:nvSpPr>
        <p:spPr>
          <a:xfrm rot="16200000">
            <a:off x="13320" y="4053240"/>
            <a:ext cx="252108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Restaurante VIPs-GINOS Bahía Sur en San Fernando (Cádiz)</a:t>
            </a:r>
            <a:br>
              <a:rPr sz="1000"/>
            </a:br>
            <a:endParaRPr b="0" lang="en-US" sz="1000" spc="-1" strike="noStrike">
              <a:solidFill>
                <a:srgbClr val="000000"/>
              </a:solidFill>
              <a:latin typeface="Arial"/>
            </a:endParaRPr>
          </a:p>
        </p:txBody>
      </p:sp>
      <p:sp>
        <p:nvSpPr>
          <p:cNvPr id="855" name=""/>
          <p:cNvSpPr/>
          <p:nvPr/>
        </p:nvSpPr>
        <p:spPr>
          <a:xfrm>
            <a:off x="1619280" y="5943600"/>
            <a:ext cx="237492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CAJAMAR Caja Rural, Sociedad Cooperativa de Crédito </a:t>
            </a:r>
            <a:endParaRPr b="0" lang="en-US" sz="900" spc="-1" strike="noStrike">
              <a:solidFill>
                <a:srgbClr val="000000"/>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856" name=""/>
          <p:cNvGrpSpPr/>
          <p:nvPr/>
        </p:nvGrpSpPr>
        <p:grpSpPr>
          <a:xfrm>
            <a:off x="1440" y="0"/>
            <a:ext cx="9183960" cy="6886800"/>
            <a:chOff x="1440" y="0"/>
            <a:chExt cx="9183960" cy="6886800"/>
          </a:xfrm>
        </p:grpSpPr>
        <p:grpSp>
          <p:nvGrpSpPr>
            <p:cNvPr id="857" name=""/>
            <p:cNvGrpSpPr/>
            <p:nvPr/>
          </p:nvGrpSpPr>
          <p:grpSpPr>
            <a:xfrm>
              <a:off x="1440" y="0"/>
              <a:ext cx="9183960" cy="6886800"/>
              <a:chOff x="1440" y="0"/>
              <a:chExt cx="9183960" cy="6886800"/>
            </a:xfrm>
          </p:grpSpPr>
          <p:grpSp>
            <p:nvGrpSpPr>
              <p:cNvPr id="858" name=""/>
              <p:cNvGrpSpPr/>
              <p:nvPr/>
            </p:nvGrpSpPr>
            <p:grpSpPr>
              <a:xfrm>
                <a:off x="1440" y="0"/>
                <a:ext cx="9178920" cy="6886800"/>
                <a:chOff x="1440" y="0"/>
                <a:chExt cx="9178920" cy="6886800"/>
              </a:xfrm>
            </p:grpSpPr>
            <p:grpSp>
              <p:nvGrpSpPr>
                <p:cNvPr id="859" name=""/>
                <p:cNvGrpSpPr/>
                <p:nvPr/>
              </p:nvGrpSpPr>
              <p:grpSpPr>
                <a:xfrm>
                  <a:off x="1440" y="0"/>
                  <a:ext cx="9178920" cy="6886800"/>
                  <a:chOff x="1440" y="0"/>
                  <a:chExt cx="9178920" cy="6886800"/>
                </a:xfrm>
              </p:grpSpPr>
              <p:grpSp>
                <p:nvGrpSpPr>
                  <p:cNvPr id="860" name=""/>
                  <p:cNvGrpSpPr/>
                  <p:nvPr/>
                </p:nvGrpSpPr>
                <p:grpSpPr>
                  <a:xfrm>
                    <a:off x="1440" y="0"/>
                    <a:ext cx="9178920" cy="6886800"/>
                    <a:chOff x="1440" y="0"/>
                    <a:chExt cx="9178920" cy="6886800"/>
                  </a:xfrm>
                </p:grpSpPr>
                <p:grpSp>
                  <p:nvGrpSpPr>
                    <p:cNvPr id="861" name=""/>
                    <p:cNvGrpSpPr/>
                    <p:nvPr/>
                  </p:nvGrpSpPr>
                  <p:grpSpPr>
                    <a:xfrm>
                      <a:off x="1440" y="0"/>
                      <a:ext cx="9178920" cy="6858000"/>
                      <a:chOff x="1440" y="0"/>
                      <a:chExt cx="9178920" cy="6858000"/>
                    </a:xfrm>
                  </p:grpSpPr>
                  <p:sp>
                    <p:nvSpPr>
                      <p:cNvPr id="862"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63" name=""/>
                      <p:cNvGrpSpPr/>
                      <p:nvPr/>
                    </p:nvGrpSpPr>
                    <p:grpSpPr>
                      <a:xfrm>
                        <a:off x="539640" y="0"/>
                        <a:ext cx="8640720" cy="6381720"/>
                        <a:chOff x="539640" y="0"/>
                        <a:chExt cx="8640720" cy="6381720"/>
                      </a:xfrm>
                    </p:grpSpPr>
                    <p:grpSp>
                      <p:nvGrpSpPr>
                        <p:cNvPr id="864" name=""/>
                        <p:cNvGrpSpPr/>
                        <p:nvPr/>
                      </p:nvGrpSpPr>
                      <p:grpSpPr>
                        <a:xfrm>
                          <a:off x="576360" y="0"/>
                          <a:ext cx="8604000" cy="1628640"/>
                          <a:chOff x="576360" y="0"/>
                          <a:chExt cx="8604000" cy="1628640"/>
                        </a:xfrm>
                      </p:grpSpPr>
                      <p:sp>
                        <p:nvSpPr>
                          <p:cNvPr id="865"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867"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69"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870"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71" name=""/>
                    <p:cNvGrpSpPr/>
                    <p:nvPr/>
                  </p:nvGrpSpPr>
                  <p:grpSpPr>
                    <a:xfrm>
                      <a:off x="179280" y="12600"/>
                      <a:ext cx="576360" cy="6836040"/>
                      <a:chOff x="179280" y="12600"/>
                      <a:chExt cx="576360" cy="6836040"/>
                    </a:xfrm>
                  </p:grpSpPr>
                  <p:sp>
                    <p:nvSpPr>
                      <p:cNvPr id="872"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873"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874"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876"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877"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878"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879"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880"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881"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882"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884"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885"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886"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887"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888"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889"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890"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891"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892"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894"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896"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897"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898"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899"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900"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58"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959"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960"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961"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962"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64"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965" name="" descr=""/>
              <p:cNvPicPr/>
              <p:nvPr/>
            </p:nvPicPr>
            <p:blipFill>
              <a:blip r:embed="rId4"/>
              <a:stretch/>
            </p:blipFill>
            <p:spPr>
              <a:xfrm>
                <a:off x="8782200" y="27000"/>
                <a:ext cx="403200" cy="954000"/>
              </a:xfrm>
              <a:prstGeom prst="rect">
                <a:avLst/>
              </a:prstGeom>
              <a:ln w="0">
                <a:noFill/>
              </a:ln>
            </p:spPr>
          </p:pic>
        </p:grpSp>
        <p:sp>
          <p:nvSpPr>
            <p:cNvPr id="966" name="">
              <a:hlinkClick r:id="" action="ppaction://hlinkshowjump?jump=previousslide"/>
            </p:cNvPr>
            <p:cNvSpPr/>
            <p:nvPr/>
          </p:nvSpPr>
          <p:spPr>
            <a:xfrm>
              <a:off x="8244000" y="6453360"/>
              <a:ext cx="360360" cy="333360"/>
            </a:xfrm>
            <a:custGeom>
              <a:avLst/>
              <a:gdLst>
                <a:gd name="textAreaLeft" fmla="*/ 33120 w 360360"/>
                <a:gd name="textAreaRight" fmla="*/ 327240 w 360360"/>
                <a:gd name="textAreaTop" fmla="*/ 33120 h 333360"/>
                <a:gd name="textAreaBottom" fmla="*/ 30024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188" y="2160"/>
                  </a:lnTo>
                  <a:lnTo>
                    <a:pt x="2160" y="2160"/>
                  </a:lnTo>
                  <a:close/>
                </a:path>
                <a:path fill="darken" w="23348" h="21600">
                  <a:moveTo>
                    <a:pt x="23348" y="0"/>
                  </a:moveTo>
                  <a:lnTo>
                    <a:pt x="23348" y="21600"/>
                  </a:lnTo>
                  <a:lnTo>
                    <a:pt x="21188" y="19440"/>
                  </a:lnTo>
                  <a:lnTo>
                    <a:pt x="21188" y="2160"/>
                  </a:lnTo>
                  <a:close/>
                </a:path>
                <a:path fill="darkenLess" w="23348" h="21600">
                  <a:moveTo>
                    <a:pt x="23348" y="21600"/>
                  </a:moveTo>
                  <a:lnTo>
                    <a:pt x="0" y="21600"/>
                  </a:lnTo>
                  <a:lnTo>
                    <a:pt x="2160" y="19440"/>
                  </a:lnTo>
                  <a:lnTo>
                    <a:pt x="21188" y="19440"/>
                  </a:lnTo>
                  <a:close/>
                </a:path>
                <a:path fill="lighten" w="23348" h="21600">
                  <a:moveTo>
                    <a:pt x="0" y="21600"/>
                  </a:moveTo>
                  <a:lnTo>
                    <a:pt x="0" y="0"/>
                  </a:lnTo>
                  <a:lnTo>
                    <a:pt x="2160" y="2160"/>
                  </a:lnTo>
                  <a:lnTo>
                    <a:pt x="2160" y="19440"/>
                  </a:lnTo>
                  <a:close/>
                </a:path>
                <a:path fill="darken" w="23348" h="21600">
                  <a:moveTo>
                    <a:pt x="5234" y="7760"/>
                  </a:moveTo>
                  <a:lnTo>
                    <a:pt x="8458" y="7760"/>
                  </a:lnTo>
                  <a:lnTo>
                    <a:pt x="8458" y="12664"/>
                  </a:lnTo>
                  <a:cubicBezTo>
                    <a:pt x="8458" y="13512"/>
                    <a:pt x="9194" y="14184"/>
                    <a:pt x="10146" y="14184"/>
                  </a:cubicBezTo>
                  <a:lnTo>
                    <a:pt x="11674" y="14184"/>
                  </a:lnTo>
                  <a:cubicBezTo>
                    <a:pt x="12626" y="14184"/>
                    <a:pt x="13362" y="13512"/>
                    <a:pt x="13362" y="12664"/>
                  </a:cubicBezTo>
                  <a:lnTo>
                    <a:pt x="13362" y="7760"/>
                  </a:lnTo>
                  <a:lnTo>
                    <a:pt x="11674" y="7760"/>
                  </a:lnTo>
                  <a:lnTo>
                    <a:pt x="14898" y="4536"/>
                  </a:lnTo>
                  <a:lnTo>
                    <a:pt x="18274" y="7760"/>
                  </a:lnTo>
                  <a:lnTo>
                    <a:pt x="16586" y="7760"/>
                  </a:lnTo>
                  <a:lnTo>
                    <a:pt x="16586" y="12664"/>
                  </a:lnTo>
                  <a:cubicBezTo>
                    <a:pt x="16586" y="15208"/>
                    <a:pt x="14218" y="17560"/>
                    <a:pt x="11674" y="17560"/>
                  </a:cubicBezTo>
                  <a:lnTo>
                    <a:pt x="10146" y="17560"/>
                  </a:lnTo>
                  <a:cubicBezTo>
                    <a:pt x="7602" y="17560"/>
                    <a:pt x="5234" y="15208"/>
                    <a:pt x="5234" y="12664"/>
                  </a:cubicBezTo>
                  <a:close/>
                </a:path>
              </a:pathLst>
            </a:custGeom>
            <a:solidFill>
              <a:srgbClr val="f7e9a1"/>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7" name=""/>
          <p:cNvSpPr/>
          <p:nvPr/>
        </p:nvSpPr>
        <p:spPr>
          <a:xfrm>
            <a:off x="1476360" y="2508120"/>
            <a:ext cx="7056360" cy="4216680"/>
          </a:xfrm>
          <a:prstGeom prst="rect">
            <a:avLst/>
          </a:prstGeom>
          <a:noFill/>
          <a:ln w="0">
            <a:noFill/>
          </a:ln>
        </p:spPr>
        <p:style>
          <a:lnRef idx="0"/>
          <a:fillRef idx="0"/>
          <a:effectRef idx="0"/>
          <a:fontRef idx="minor"/>
        </p:style>
        <p:txBody>
          <a:bodyPr lIns="90000" rIns="90000" tIns="46800" bIns="46800" anchor="t">
            <a:spAutoFit/>
          </a:bodyPr>
          <a:p>
            <a:pPr>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66"/>
                </a:solidFill>
                <a:uFillTx/>
                <a:latin typeface="Arial"/>
                <a:hlinkClick r:id="rId6" action="ppaction://hlinksldjump"/>
              </a:rPr>
              <a:t>ORGANIGRAMA. </a:t>
            </a:r>
            <a:endParaRPr b="0" lang="en-US" sz="2000" spc="-1" strike="noStrike">
              <a:solidFill>
                <a:srgbClr val="000000"/>
              </a:solidFill>
              <a:latin typeface="Arial"/>
            </a:endParaRPr>
          </a:p>
          <a:p>
            <a:pPr>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NÁLISIS DE LA ESTRUCTURA FORMAL DE LA ORGANIZACIÓN.</a:t>
            </a:r>
            <a:endParaRPr b="0" lang="en-US" sz="2000" spc="-1" strike="noStrike">
              <a:solidFill>
                <a:srgbClr val="000000"/>
              </a:solidFill>
              <a:latin typeface="Arial"/>
            </a:endParaRPr>
          </a:p>
          <a:p>
            <a:pPr>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66"/>
                </a:solidFill>
                <a:uFillTx/>
                <a:latin typeface="Arial"/>
                <a:hlinkClick r:id="rId11" action="ppaction://hlinksldjump"/>
              </a:rPr>
              <a:t>MANUAL DE ORGANIZACIÓN DE PUESTOS.</a:t>
            </a:r>
            <a:endParaRPr b="0" lang="en-US" sz="2000" spc="-1" strike="noStrike">
              <a:solidFill>
                <a:srgbClr val="000000"/>
              </a:solidFill>
              <a:latin typeface="Arial"/>
            </a:endParaRPr>
          </a:p>
          <a:p>
            <a:pPr>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66"/>
                </a:solidFill>
                <a:uFillTx/>
                <a:latin typeface="Arial"/>
                <a:hlinkClick r:id="rId14" action="ppaction://hlinksldjump"/>
              </a:rPr>
              <a:t>ORGANIGRAFO. </a:t>
            </a:r>
            <a:endParaRPr b="0" lang="en-US" sz="2000" spc="-1" strike="noStrike">
              <a:solidFill>
                <a:srgbClr val="000000"/>
              </a:solidFill>
              <a:latin typeface="Arial"/>
            </a:endParaRPr>
          </a:p>
          <a:p>
            <a:pPr>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SzPct val="10279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66"/>
                </a:solidFill>
                <a:uFillTx/>
                <a:latin typeface="Arial"/>
                <a:hlinkClick r:id="rId17" action="ppaction://hlinksldjump"/>
              </a:rPr>
              <a:t>ANÁLISIS DE LA CULTURA DE LA ORGANIZACIÓN.</a:t>
            </a:r>
            <a:endParaRPr b="0" lang="en-US" sz="2000" spc="-1" strike="noStrike">
              <a:solidFill>
                <a:srgbClr val="000000"/>
              </a:solidFill>
              <a:latin typeface="Arial"/>
            </a:endParaRPr>
          </a:p>
          <a:p>
            <a:pPr>
              <a:buSzPct val="10279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SzPct val="10279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66"/>
                </a:solidFill>
                <a:uFillTx/>
                <a:latin typeface="Arial"/>
                <a:hlinkClick r:id="rId20" action="ppaction://hlinksldjump"/>
              </a:rPr>
              <a:t>ESPECIALIZACIÓN DE LS PUESTOS.</a:t>
            </a:r>
            <a:endParaRPr b="0" lang="en-US" sz="2000" spc="-1" strike="noStrike">
              <a:solidFill>
                <a:srgbClr val="000000"/>
              </a:solidFill>
              <a:latin typeface="Arial"/>
            </a:endParaRPr>
          </a:p>
          <a:p>
            <a:pPr>
              <a:spcBef>
                <a:spcPts val="12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8" name=""/>
          <p:cNvSpPr txBox="1"/>
          <p:nvPr/>
        </p:nvSpPr>
        <p:spPr>
          <a:xfrm>
            <a:off x="2195640" y="2058840"/>
            <a:ext cx="564012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ELEMENTOS ESTRUCTURALES</a:t>
            </a:r>
            <a:endParaRPr b="1" lang="en-US" sz="1800" spc="1" strike="noStrike">
              <a:ln w="0">
                <a:noFill/>
              </a:ln>
              <a:solidFill>
                <a:srgbClr val="f7e9a1"/>
              </a:solidFill>
              <a:latin typeface="BankGothic Md BT"/>
              <a:ea typeface="BankGothic Md BT"/>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969" name=""/>
          <p:cNvGrpSpPr/>
          <p:nvPr/>
        </p:nvGrpSpPr>
        <p:grpSpPr>
          <a:xfrm>
            <a:off x="1440" y="0"/>
            <a:ext cx="9183960" cy="6886800"/>
            <a:chOff x="1440" y="0"/>
            <a:chExt cx="9183960" cy="6886800"/>
          </a:xfrm>
        </p:grpSpPr>
        <p:grpSp>
          <p:nvGrpSpPr>
            <p:cNvPr id="970" name=""/>
            <p:cNvGrpSpPr/>
            <p:nvPr/>
          </p:nvGrpSpPr>
          <p:grpSpPr>
            <a:xfrm>
              <a:off x="1440" y="0"/>
              <a:ext cx="9183960" cy="6886800"/>
              <a:chOff x="1440" y="0"/>
              <a:chExt cx="9183960" cy="6886800"/>
            </a:xfrm>
          </p:grpSpPr>
          <p:grpSp>
            <p:nvGrpSpPr>
              <p:cNvPr id="971" name=""/>
              <p:cNvGrpSpPr/>
              <p:nvPr/>
            </p:nvGrpSpPr>
            <p:grpSpPr>
              <a:xfrm>
                <a:off x="1440" y="0"/>
                <a:ext cx="9178920" cy="6886800"/>
                <a:chOff x="1440" y="0"/>
                <a:chExt cx="9178920" cy="6886800"/>
              </a:xfrm>
            </p:grpSpPr>
            <p:grpSp>
              <p:nvGrpSpPr>
                <p:cNvPr id="972" name=""/>
                <p:cNvGrpSpPr/>
                <p:nvPr/>
              </p:nvGrpSpPr>
              <p:grpSpPr>
                <a:xfrm>
                  <a:off x="1440" y="0"/>
                  <a:ext cx="9178920" cy="6886800"/>
                  <a:chOff x="1440" y="0"/>
                  <a:chExt cx="9178920" cy="6886800"/>
                </a:xfrm>
              </p:grpSpPr>
              <p:grpSp>
                <p:nvGrpSpPr>
                  <p:cNvPr id="973" name=""/>
                  <p:cNvGrpSpPr/>
                  <p:nvPr/>
                </p:nvGrpSpPr>
                <p:grpSpPr>
                  <a:xfrm>
                    <a:off x="1440" y="0"/>
                    <a:ext cx="9178920" cy="6886800"/>
                    <a:chOff x="1440" y="0"/>
                    <a:chExt cx="9178920" cy="6886800"/>
                  </a:xfrm>
                </p:grpSpPr>
                <p:grpSp>
                  <p:nvGrpSpPr>
                    <p:cNvPr id="974" name=""/>
                    <p:cNvGrpSpPr/>
                    <p:nvPr/>
                  </p:nvGrpSpPr>
                  <p:grpSpPr>
                    <a:xfrm>
                      <a:off x="1440" y="0"/>
                      <a:ext cx="9178920" cy="6858000"/>
                      <a:chOff x="1440" y="0"/>
                      <a:chExt cx="9178920" cy="6858000"/>
                    </a:xfrm>
                  </p:grpSpPr>
                  <p:sp>
                    <p:nvSpPr>
                      <p:cNvPr id="975"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76" name=""/>
                      <p:cNvGrpSpPr/>
                      <p:nvPr/>
                    </p:nvGrpSpPr>
                    <p:grpSpPr>
                      <a:xfrm>
                        <a:off x="539640" y="0"/>
                        <a:ext cx="8640720" cy="6381720"/>
                        <a:chOff x="539640" y="0"/>
                        <a:chExt cx="8640720" cy="6381720"/>
                      </a:xfrm>
                    </p:grpSpPr>
                    <p:grpSp>
                      <p:nvGrpSpPr>
                        <p:cNvPr id="977" name=""/>
                        <p:cNvGrpSpPr/>
                        <p:nvPr/>
                      </p:nvGrpSpPr>
                      <p:grpSpPr>
                        <a:xfrm>
                          <a:off x="576360" y="0"/>
                          <a:ext cx="8604000" cy="1628640"/>
                          <a:chOff x="576360" y="0"/>
                          <a:chExt cx="8604000" cy="1628640"/>
                        </a:xfrm>
                      </p:grpSpPr>
                      <p:sp>
                        <p:nvSpPr>
                          <p:cNvPr id="978"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980"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982"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983"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4" name=""/>
                    <p:cNvGrpSpPr/>
                    <p:nvPr/>
                  </p:nvGrpSpPr>
                  <p:grpSpPr>
                    <a:xfrm>
                      <a:off x="179280" y="12600"/>
                      <a:ext cx="576360" cy="6836040"/>
                      <a:chOff x="179280" y="12600"/>
                      <a:chExt cx="576360" cy="6836040"/>
                    </a:xfrm>
                  </p:grpSpPr>
                  <p:sp>
                    <p:nvSpPr>
                      <p:cNvPr id="985"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986"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987"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989"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990"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991"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992"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993"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994"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995"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997"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998"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999"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000"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001"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002"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003"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004"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005"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007"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009"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010"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011"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012"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013"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1" name=""/>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072"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073" name=""/>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074" name=""/>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075"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7"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78" name="" descr=""/>
              <p:cNvPicPr/>
              <p:nvPr/>
            </p:nvPicPr>
            <p:blipFill>
              <a:blip r:embed="rId1"/>
              <a:stretch/>
            </p:blipFill>
            <p:spPr>
              <a:xfrm>
                <a:off x="8782200" y="27000"/>
                <a:ext cx="403200" cy="954000"/>
              </a:xfrm>
              <a:prstGeom prst="rect">
                <a:avLst/>
              </a:prstGeom>
              <a:ln w="0">
                <a:noFill/>
              </a:ln>
            </p:spPr>
          </p:pic>
        </p:grpSp>
        <p:sp>
          <p:nvSpPr>
            <p:cNvPr id="1079" name="">
              <a:hlinkClick r:id="" action="ppaction://hlinkshowjump?jump=previousslide"/>
            </p:cNvPr>
            <p:cNvSpPr/>
            <p:nvPr/>
          </p:nvSpPr>
          <p:spPr>
            <a:xfrm>
              <a:off x="8244000" y="6453360"/>
              <a:ext cx="360360" cy="333360"/>
            </a:xfrm>
            <a:custGeom>
              <a:avLst/>
              <a:gdLst>
                <a:gd name="textAreaLeft" fmla="*/ 33120 w 360360"/>
                <a:gd name="textAreaRight" fmla="*/ 327240 w 360360"/>
                <a:gd name="textAreaTop" fmla="*/ 33120 h 333360"/>
                <a:gd name="textAreaBottom" fmla="*/ 30024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188" y="2160"/>
                  </a:lnTo>
                  <a:lnTo>
                    <a:pt x="2160" y="2160"/>
                  </a:lnTo>
                  <a:close/>
                </a:path>
                <a:path fill="darken" w="23348" h="21600">
                  <a:moveTo>
                    <a:pt x="23348" y="0"/>
                  </a:moveTo>
                  <a:lnTo>
                    <a:pt x="23348" y="21600"/>
                  </a:lnTo>
                  <a:lnTo>
                    <a:pt x="21188" y="19440"/>
                  </a:lnTo>
                  <a:lnTo>
                    <a:pt x="21188" y="2160"/>
                  </a:lnTo>
                  <a:close/>
                </a:path>
                <a:path fill="darkenLess" w="23348" h="21600">
                  <a:moveTo>
                    <a:pt x="23348" y="21600"/>
                  </a:moveTo>
                  <a:lnTo>
                    <a:pt x="0" y="21600"/>
                  </a:lnTo>
                  <a:lnTo>
                    <a:pt x="2160" y="19440"/>
                  </a:lnTo>
                  <a:lnTo>
                    <a:pt x="21188" y="19440"/>
                  </a:lnTo>
                  <a:close/>
                </a:path>
                <a:path fill="lighten" w="23348" h="21600">
                  <a:moveTo>
                    <a:pt x="0" y="21600"/>
                  </a:moveTo>
                  <a:lnTo>
                    <a:pt x="0" y="0"/>
                  </a:lnTo>
                  <a:lnTo>
                    <a:pt x="2160" y="2160"/>
                  </a:lnTo>
                  <a:lnTo>
                    <a:pt x="2160" y="19440"/>
                  </a:lnTo>
                  <a:close/>
                </a:path>
                <a:path fill="darken" w="23348" h="21600">
                  <a:moveTo>
                    <a:pt x="5234" y="7760"/>
                  </a:moveTo>
                  <a:lnTo>
                    <a:pt x="8458" y="7760"/>
                  </a:lnTo>
                  <a:lnTo>
                    <a:pt x="8458" y="12664"/>
                  </a:lnTo>
                  <a:cubicBezTo>
                    <a:pt x="8458" y="13512"/>
                    <a:pt x="9194" y="14184"/>
                    <a:pt x="10146" y="14184"/>
                  </a:cubicBezTo>
                  <a:lnTo>
                    <a:pt x="11674" y="14184"/>
                  </a:lnTo>
                  <a:cubicBezTo>
                    <a:pt x="12626" y="14184"/>
                    <a:pt x="13362" y="13512"/>
                    <a:pt x="13362" y="12664"/>
                  </a:cubicBezTo>
                  <a:lnTo>
                    <a:pt x="13362" y="7760"/>
                  </a:lnTo>
                  <a:lnTo>
                    <a:pt x="11674" y="7760"/>
                  </a:lnTo>
                  <a:lnTo>
                    <a:pt x="14898" y="4536"/>
                  </a:lnTo>
                  <a:lnTo>
                    <a:pt x="18274" y="7760"/>
                  </a:lnTo>
                  <a:lnTo>
                    <a:pt x="16586" y="7760"/>
                  </a:lnTo>
                  <a:lnTo>
                    <a:pt x="16586" y="12664"/>
                  </a:lnTo>
                  <a:cubicBezTo>
                    <a:pt x="16586" y="15208"/>
                    <a:pt x="14218" y="17560"/>
                    <a:pt x="11674" y="17560"/>
                  </a:cubicBezTo>
                  <a:lnTo>
                    <a:pt x="10146" y="17560"/>
                  </a:lnTo>
                  <a:cubicBezTo>
                    <a:pt x="7602" y="17560"/>
                    <a:pt x="5234" y="15208"/>
                    <a:pt x="5234" y="12664"/>
                  </a:cubicBezTo>
                  <a:close/>
                </a:path>
              </a:pathLst>
            </a:custGeom>
            <a:solidFill>
              <a:srgbClr val="f7e9a1"/>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0" name=""/>
          <p:cNvGrpSpPr/>
          <p:nvPr/>
        </p:nvGrpSpPr>
        <p:grpSpPr>
          <a:xfrm>
            <a:off x="971640" y="1884600"/>
            <a:ext cx="7848360" cy="4419360"/>
            <a:chOff x="971640" y="1884600"/>
            <a:chExt cx="7848360" cy="4419360"/>
          </a:xfrm>
        </p:grpSpPr>
        <p:cxnSp>
          <p:nvCxnSpPr>
            <p:cNvPr id="1081" name="_s253041"/>
            <p:cNvCxnSpPr>
              <a:stCxn id="1082" idx="1"/>
              <a:endCxn id="1083" idx="2"/>
            </p:cNvCxnSpPr>
            <p:nvPr/>
          </p:nvCxnSpPr>
          <p:spPr>
            <a:xfrm rot="10800000">
              <a:off x="5072760" y="2199600"/>
              <a:ext cx="506880" cy="118080"/>
            </a:xfrm>
            <a:prstGeom prst="bentConnector2">
              <a:avLst/>
            </a:prstGeom>
            <a:ln w="28440">
              <a:solidFill>
                <a:srgbClr val="f7e9a1"/>
              </a:solidFill>
              <a:miter/>
            </a:ln>
          </p:spPr>
        </p:cxnSp>
        <p:cxnSp>
          <p:nvCxnSpPr>
            <p:cNvPr id="1084" name="_s253042"/>
            <p:cNvCxnSpPr>
              <a:stCxn id="1085" idx="3"/>
              <a:endCxn id="1083" idx="2"/>
            </p:cNvCxnSpPr>
            <p:nvPr/>
          </p:nvCxnSpPr>
          <p:spPr>
            <a:xfrm flipV="1">
              <a:off x="4467240" y="2199960"/>
              <a:ext cx="606960" cy="118080"/>
            </a:xfrm>
            <a:prstGeom prst="bentConnector2">
              <a:avLst/>
            </a:prstGeom>
            <a:ln w="28440">
              <a:solidFill>
                <a:srgbClr val="f7e9a1"/>
              </a:solidFill>
              <a:miter/>
            </a:ln>
          </p:spPr>
        </p:cxnSp>
        <p:cxnSp>
          <p:nvCxnSpPr>
            <p:cNvPr id="1086" name="_s253043"/>
            <p:cNvCxnSpPr>
              <a:stCxn id="1087" idx="0"/>
              <a:endCxn id="1088" idx="2"/>
            </p:cNvCxnSpPr>
            <p:nvPr/>
          </p:nvCxnSpPr>
          <p:spPr>
            <a:xfrm flipV="1" rot="16200000">
              <a:off x="8097120" y="3226680"/>
              <a:ext cx="400680" cy="3960"/>
            </a:xfrm>
            <a:prstGeom prst="bentConnector3">
              <a:avLst>
                <a:gd name="adj1" fmla="val 28507"/>
              </a:avLst>
            </a:prstGeom>
            <a:ln w="28440">
              <a:solidFill>
                <a:srgbClr val="f7e9a1"/>
              </a:solidFill>
              <a:miter/>
            </a:ln>
          </p:spPr>
        </p:cxnSp>
        <p:cxnSp>
          <p:nvCxnSpPr>
            <p:cNvPr id="1089" name="_s253044"/>
            <p:cNvCxnSpPr>
              <a:stCxn id="1090" idx="0"/>
              <a:endCxn id="1091" idx="2"/>
            </p:cNvCxnSpPr>
            <p:nvPr/>
          </p:nvCxnSpPr>
          <p:spPr>
            <a:xfrm flipV="1" rot="16200000">
              <a:off x="5694120" y="2876040"/>
              <a:ext cx="399240" cy="722520"/>
            </a:xfrm>
            <a:prstGeom prst="bentConnector3">
              <a:avLst>
                <a:gd name="adj1" fmla="val 28610"/>
              </a:avLst>
            </a:prstGeom>
            <a:ln w="28440">
              <a:solidFill>
                <a:srgbClr val="f7e9a1"/>
              </a:solidFill>
              <a:miter/>
            </a:ln>
          </p:spPr>
        </p:cxnSp>
        <p:cxnSp>
          <p:nvCxnSpPr>
            <p:cNvPr id="1092" name="_s253045"/>
            <p:cNvCxnSpPr>
              <a:stCxn id="1093" idx="0"/>
              <a:endCxn id="1091" idx="2"/>
            </p:cNvCxnSpPr>
            <p:nvPr/>
          </p:nvCxnSpPr>
          <p:spPr>
            <a:xfrm flipH="1" flipV="1" rot="5400000">
              <a:off x="4985280" y="2889360"/>
              <a:ext cx="399240" cy="696240"/>
            </a:xfrm>
            <a:prstGeom prst="bentConnector3">
              <a:avLst>
                <a:gd name="adj1" fmla="val 28610"/>
              </a:avLst>
            </a:prstGeom>
            <a:ln w="28440">
              <a:solidFill>
                <a:srgbClr val="f7e9a1"/>
              </a:solidFill>
              <a:miter/>
            </a:ln>
          </p:spPr>
        </p:cxnSp>
        <p:cxnSp>
          <p:nvCxnSpPr>
            <p:cNvPr id="1094" name="_s253046"/>
            <p:cNvCxnSpPr>
              <a:stCxn id="1095" idx="0"/>
              <a:endCxn id="1096" idx="2"/>
            </p:cNvCxnSpPr>
            <p:nvPr/>
          </p:nvCxnSpPr>
          <p:spPr>
            <a:xfrm flipV="1">
              <a:off x="2871720" y="5803560"/>
              <a:ext cx="2160" cy="185040"/>
            </a:xfrm>
            <a:prstGeom prst="bentConnector2">
              <a:avLst/>
            </a:prstGeom>
            <a:ln w="28440">
              <a:solidFill>
                <a:srgbClr val="f7e9a1"/>
              </a:solidFill>
              <a:miter/>
            </a:ln>
          </p:spPr>
        </p:cxnSp>
        <p:cxnSp>
          <p:nvCxnSpPr>
            <p:cNvPr id="1097" name="_s253047"/>
            <p:cNvCxnSpPr>
              <a:stCxn id="1096" idx="0"/>
              <a:endCxn id="1098" idx="2"/>
            </p:cNvCxnSpPr>
            <p:nvPr/>
          </p:nvCxnSpPr>
          <p:spPr>
            <a:xfrm flipV="1">
              <a:off x="2871720" y="5301720"/>
              <a:ext cx="2160" cy="184680"/>
            </a:xfrm>
            <a:prstGeom prst="bentConnector2">
              <a:avLst/>
            </a:prstGeom>
            <a:ln w="28440">
              <a:solidFill>
                <a:srgbClr val="f7e9a1"/>
              </a:solidFill>
              <a:miter/>
            </a:ln>
          </p:spPr>
        </p:cxnSp>
        <p:cxnSp>
          <p:nvCxnSpPr>
            <p:cNvPr id="1099" name="_s253048"/>
            <p:cNvCxnSpPr>
              <a:stCxn id="1098" idx="0"/>
              <a:endCxn id="1100" idx="2"/>
            </p:cNvCxnSpPr>
            <p:nvPr/>
          </p:nvCxnSpPr>
          <p:spPr>
            <a:xfrm flipV="1">
              <a:off x="2871720" y="4800240"/>
              <a:ext cx="2160" cy="186480"/>
            </a:xfrm>
            <a:prstGeom prst="bentConnector2">
              <a:avLst/>
            </a:prstGeom>
            <a:ln w="28440">
              <a:solidFill>
                <a:srgbClr val="f7e9a1"/>
              </a:solidFill>
              <a:miter/>
            </a:ln>
          </p:spPr>
        </p:cxnSp>
        <p:cxnSp>
          <p:nvCxnSpPr>
            <p:cNvPr id="1101" name="_s253049"/>
            <p:cNvCxnSpPr>
              <a:stCxn id="1100" idx="0"/>
              <a:endCxn id="1102" idx="2"/>
            </p:cNvCxnSpPr>
            <p:nvPr/>
          </p:nvCxnSpPr>
          <p:spPr>
            <a:xfrm flipV="1">
              <a:off x="2871720" y="4300200"/>
              <a:ext cx="2160" cy="185040"/>
            </a:xfrm>
            <a:prstGeom prst="bentConnector2">
              <a:avLst/>
            </a:prstGeom>
            <a:ln w="28440">
              <a:solidFill>
                <a:srgbClr val="f7e9a1"/>
              </a:solidFill>
              <a:miter/>
            </a:ln>
          </p:spPr>
        </p:cxnSp>
        <p:cxnSp>
          <p:nvCxnSpPr>
            <p:cNvPr id="1103" name="_s253050"/>
            <p:cNvCxnSpPr>
              <a:stCxn id="1102" idx="0"/>
              <a:endCxn id="1104" idx="2"/>
            </p:cNvCxnSpPr>
            <p:nvPr/>
          </p:nvCxnSpPr>
          <p:spPr>
            <a:xfrm flipV="1">
              <a:off x="2871720" y="3687120"/>
              <a:ext cx="2160" cy="297720"/>
            </a:xfrm>
            <a:prstGeom prst="bentConnector2">
              <a:avLst/>
            </a:prstGeom>
            <a:ln w="28440">
              <a:solidFill>
                <a:srgbClr val="f7e9a1"/>
              </a:solidFill>
              <a:miter/>
            </a:ln>
          </p:spPr>
        </p:cxnSp>
        <p:cxnSp>
          <p:nvCxnSpPr>
            <p:cNvPr id="1105" name="_s253051"/>
            <p:cNvCxnSpPr>
              <a:stCxn id="1104" idx="0"/>
              <a:endCxn id="1106" idx="2"/>
            </p:cNvCxnSpPr>
            <p:nvPr/>
          </p:nvCxnSpPr>
          <p:spPr>
            <a:xfrm flipV="1" rot="16200000">
              <a:off x="2388600" y="2888640"/>
              <a:ext cx="343440" cy="623160"/>
            </a:xfrm>
            <a:prstGeom prst="bentConnector3">
              <a:avLst>
                <a:gd name="adj1" fmla="val 33263"/>
              </a:avLst>
            </a:prstGeom>
            <a:ln w="28440">
              <a:solidFill>
                <a:srgbClr val="f7e9a1"/>
              </a:solidFill>
              <a:miter/>
            </a:ln>
          </p:spPr>
        </p:cxnSp>
        <p:cxnSp>
          <p:nvCxnSpPr>
            <p:cNvPr id="1107" name="_s253052"/>
            <p:cNvCxnSpPr>
              <a:stCxn id="1108" idx="0"/>
              <a:endCxn id="1106" idx="2"/>
            </p:cNvCxnSpPr>
            <p:nvPr/>
          </p:nvCxnSpPr>
          <p:spPr>
            <a:xfrm flipH="1" flipV="1" rot="5400000">
              <a:off x="1706040" y="2814120"/>
              <a:ext cx="329040" cy="757800"/>
            </a:xfrm>
            <a:prstGeom prst="bentConnector3">
              <a:avLst>
                <a:gd name="adj1" fmla="val 34720"/>
              </a:avLst>
            </a:prstGeom>
            <a:ln w="28440">
              <a:solidFill>
                <a:srgbClr val="f7e9a1"/>
              </a:solidFill>
              <a:miter/>
            </a:ln>
          </p:spPr>
        </p:cxnSp>
        <p:cxnSp>
          <p:nvCxnSpPr>
            <p:cNvPr id="1109" name="_s253053"/>
            <p:cNvCxnSpPr>
              <a:stCxn id="1088" idx="0"/>
              <a:endCxn id="1083" idx="2"/>
            </p:cNvCxnSpPr>
            <p:nvPr/>
          </p:nvCxnSpPr>
          <p:spPr>
            <a:xfrm flipV="1" rot="16200000">
              <a:off x="6428160" y="844560"/>
              <a:ext cx="513360" cy="3223440"/>
            </a:xfrm>
            <a:prstGeom prst="bentConnector3">
              <a:avLst>
                <a:gd name="adj1" fmla="val 22245"/>
              </a:avLst>
            </a:prstGeom>
            <a:ln w="28440">
              <a:solidFill>
                <a:srgbClr val="f7e9a1"/>
              </a:solidFill>
              <a:miter/>
            </a:ln>
          </p:spPr>
        </p:cxnSp>
        <p:cxnSp>
          <p:nvCxnSpPr>
            <p:cNvPr id="1110" name="_s253054"/>
            <p:cNvCxnSpPr/>
            <p:nvPr/>
          </p:nvCxnSpPr>
          <p:spPr>
            <a:xfrm flipV="1">
              <a:off x="5510160" y="2579040"/>
              <a:ext cx="2160" cy="345240"/>
            </a:xfrm>
            <a:prstGeom prst="bentConnector2">
              <a:avLst/>
            </a:prstGeom>
            <a:ln w="28440">
              <a:solidFill>
                <a:srgbClr val="f7e9a1"/>
              </a:solidFill>
              <a:miter/>
            </a:ln>
          </p:spPr>
        </p:cxnSp>
        <p:cxnSp>
          <p:nvCxnSpPr>
            <p:cNvPr id="1111" name="_s253055"/>
            <p:cNvCxnSpPr>
              <a:stCxn id="1106" idx="0"/>
              <a:endCxn id="1083" idx="2"/>
            </p:cNvCxnSpPr>
            <p:nvPr/>
          </p:nvCxnSpPr>
          <p:spPr>
            <a:xfrm flipH="1" flipV="1" rot="5400000">
              <a:off x="3404520" y="1044000"/>
              <a:ext cx="513360" cy="2824920"/>
            </a:xfrm>
            <a:prstGeom prst="bentConnector3">
              <a:avLst>
                <a:gd name="adj1" fmla="val 22245"/>
              </a:avLst>
            </a:prstGeom>
            <a:ln w="28440">
              <a:solidFill>
                <a:srgbClr val="f7e9a1"/>
              </a:solidFill>
              <a:miter/>
            </a:ln>
          </p:spPr>
        </p:cxnSp>
        <p:sp>
          <p:nvSpPr>
            <p:cNvPr id="1083" name="_s253056"/>
            <p:cNvSpPr/>
            <p:nvPr/>
          </p:nvSpPr>
          <p:spPr>
            <a:xfrm>
              <a:off x="4549680" y="1884600"/>
              <a:ext cx="104796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irector Gerente</a:t>
              </a:r>
              <a:endParaRPr b="0" lang="en-US" sz="1000" spc="-1" strike="noStrike">
                <a:solidFill>
                  <a:srgbClr val="000000"/>
                </a:solidFill>
                <a:latin typeface="Arial"/>
              </a:endParaRPr>
            </a:p>
          </p:txBody>
        </p:sp>
        <p:sp>
          <p:nvSpPr>
            <p:cNvPr id="1106" name="_s253057"/>
            <p:cNvSpPr/>
            <p:nvPr/>
          </p:nvSpPr>
          <p:spPr>
            <a:xfrm>
              <a:off x="1725480" y="2712960"/>
              <a:ext cx="104796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pto. Obras</a:t>
              </a:r>
              <a:endParaRPr b="0" lang="en-US" sz="1000" spc="-1" strike="noStrike">
                <a:solidFill>
                  <a:srgbClr val="000000"/>
                </a:solidFill>
                <a:latin typeface="Arial"/>
              </a:endParaRPr>
            </a:p>
          </p:txBody>
        </p:sp>
        <p:sp>
          <p:nvSpPr>
            <p:cNvPr id="1091" name="_s253058"/>
            <p:cNvSpPr/>
            <p:nvPr/>
          </p:nvSpPr>
          <p:spPr>
            <a:xfrm>
              <a:off x="5006880" y="2722680"/>
              <a:ext cx="104940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pto. Administración</a:t>
              </a:r>
              <a:endParaRPr b="0" lang="en-US" sz="1000" spc="-1" strike="noStrike">
                <a:solidFill>
                  <a:srgbClr val="000000"/>
                </a:solidFill>
                <a:latin typeface="Arial"/>
              </a:endParaRPr>
            </a:p>
          </p:txBody>
        </p:sp>
        <p:sp>
          <p:nvSpPr>
            <p:cNvPr id="1088" name="_s253059"/>
            <p:cNvSpPr/>
            <p:nvPr/>
          </p:nvSpPr>
          <p:spPr>
            <a:xfrm>
              <a:off x="7772400" y="2712960"/>
              <a:ext cx="104760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Almacén</a:t>
              </a:r>
              <a:endParaRPr b="0" lang="en-US" sz="1000" spc="-1" strike="noStrike">
                <a:solidFill>
                  <a:srgbClr val="000000"/>
                </a:solidFill>
                <a:latin typeface="Arial"/>
              </a:endParaRPr>
            </a:p>
          </p:txBody>
        </p:sp>
        <p:sp>
          <p:nvSpPr>
            <p:cNvPr id="1108" name="_s253060"/>
            <p:cNvSpPr/>
            <p:nvPr/>
          </p:nvSpPr>
          <p:spPr>
            <a:xfrm>
              <a:off x="971640" y="3357720"/>
              <a:ext cx="103968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Técnico</a:t>
              </a:r>
              <a:endParaRPr b="0" lang="en-US" sz="1000" spc="-1" strike="noStrike">
                <a:solidFill>
                  <a:srgbClr val="000000"/>
                </a:solidFill>
                <a:latin typeface="Arial"/>
              </a:endParaRPr>
            </a:p>
          </p:txBody>
        </p:sp>
        <p:sp>
          <p:nvSpPr>
            <p:cNvPr id="1104" name="_s253061"/>
            <p:cNvSpPr/>
            <p:nvPr/>
          </p:nvSpPr>
          <p:spPr>
            <a:xfrm>
              <a:off x="2351160" y="3371760"/>
              <a:ext cx="104112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Jefe de Obra</a:t>
              </a:r>
              <a:endParaRPr b="0" lang="en-US" sz="1000" spc="-1" strike="noStrike">
                <a:solidFill>
                  <a:srgbClr val="000000"/>
                </a:solidFill>
                <a:latin typeface="Arial"/>
              </a:endParaRPr>
            </a:p>
          </p:txBody>
        </p:sp>
        <p:sp>
          <p:nvSpPr>
            <p:cNvPr id="1102" name="_s253062"/>
            <p:cNvSpPr/>
            <p:nvPr/>
          </p:nvSpPr>
          <p:spPr>
            <a:xfrm>
              <a:off x="2373120" y="3984840"/>
              <a:ext cx="99720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Encargado de obra</a:t>
              </a:r>
              <a:endParaRPr b="0" lang="en-US" sz="1000" spc="-1" strike="noStrike">
                <a:solidFill>
                  <a:srgbClr val="000000"/>
                </a:solidFill>
                <a:latin typeface="Arial"/>
              </a:endParaRPr>
            </a:p>
          </p:txBody>
        </p:sp>
        <p:sp>
          <p:nvSpPr>
            <p:cNvPr id="1100" name="_s253063"/>
            <p:cNvSpPr/>
            <p:nvPr/>
          </p:nvSpPr>
          <p:spPr>
            <a:xfrm>
              <a:off x="2373120" y="4484880"/>
              <a:ext cx="99720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Encargado de albañilería</a:t>
              </a:r>
              <a:endParaRPr b="0" lang="en-US" sz="1000" spc="-1" strike="noStrike">
                <a:solidFill>
                  <a:srgbClr val="000000"/>
                </a:solidFill>
                <a:latin typeface="Arial"/>
              </a:endParaRPr>
            </a:p>
          </p:txBody>
        </p:sp>
        <p:sp>
          <p:nvSpPr>
            <p:cNvPr id="1098" name="_s253064"/>
            <p:cNvSpPr/>
            <p:nvPr/>
          </p:nvSpPr>
          <p:spPr>
            <a:xfrm>
              <a:off x="2373120" y="4986360"/>
              <a:ext cx="99720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Oficial de 1ª</a:t>
              </a:r>
              <a:endParaRPr b="0" lang="en-US" sz="1000" spc="-1" strike="noStrike">
                <a:solidFill>
                  <a:srgbClr val="000000"/>
                </a:solidFill>
                <a:latin typeface="Arial"/>
              </a:endParaRPr>
            </a:p>
          </p:txBody>
        </p:sp>
        <p:sp>
          <p:nvSpPr>
            <p:cNvPr id="1096" name="_s253065"/>
            <p:cNvSpPr/>
            <p:nvPr/>
          </p:nvSpPr>
          <p:spPr>
            <a:xfrm>
              <a:off x="2373120" y="5486400"/>
              <a:ext cx="997200" cy="3175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Oficial de 2ª</a:t>
              </a:r>
              <a:endParaRPr b="0" lang="en-US" sz="1000" spc="-1" strike="noStrike">
                <a:solidFill>
                  <a:srgbClr val="000000"/>
                </a:solidFill>
                <a:latin typeface="Arial"/>
              </a:endParaRPr>
            </a:p>
          </p:txBody>
        </p:sp>
        <p:sp>
          <p:nvSpPr>
            <p:cNvPr id="1095" name="_s253066"/>
            <p:cNvSpPr/>
            <p:nvPr/>
          </p:nvSpPr>
          <p:spPr>
            <a:xfrm>
              <a:off x="2373120" y="5988240"/>
              <a:ext cx="99720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Peón</a:t>
              </a:r>
              <a:endParaRPr b="0" lang="en-US" sz="1000" spc="-1" strike="noStrike">
                <a:solidFill>
                  <a:srgbClr val="000000"/>
                </a:solidFill>
                <a:latin typeface="Arial"/>
              </a:endParaRPr>
            </a:p>
          </p:txBody>
        </p:sp>
        <p:sp>
          <p:nvSpPr>
            <p:cNvPr id="1093" name="_s253067"/>
            <p:cNvSpPr/>
            <p:nvPr/>
          </p:nvSpPr>
          <p:spPr>
            <a:xfrm>
              <a:off x="4211640" y="3436920"/>
              <a:ext cx="1251000" cy="4525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Responsable de Contabilidad</a:t>
              </a:r>
              <a:endParaRPr b="0" lang="en-US" sz="1000" spc="-1" strike="noStrike">
                <a:solidFill>
                  <a:srgbClr val="000000"/>
                </a:solidFill>
                <a:latin typeface="Arial"/>
              </a:endParaRPr>
            </a:p>
          </p:txBody>
        </p:sp>
        <p:sp>
          <p:nvSpPr>
            <p:cNvPr id="1090" name="_s253068"/>
            <p:cNvSpPr/>
            <p:nvPr/>
          </p:nvSpPr>
          <p:spPr>
            <a:xfrm>
              <a:off x="5634000" y="3436920"/>
              <a:ext cx="1241280" cy="4525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Administrativo</a:t>
              </a:r>
              <a:endParaRPr b="0" lang="en-US" sz="1000" spc="-1" strike="noStrike">
                <a:solidFill>
                  <a:srgbClr val="000000"/>
                </a:solidFill>
                <a:latin typeface="Arial"/>
              </a:endParaRPr>
            </a:p>
          </p:txBody>
        </p:sp>
        <p:sp>
          <p:nvSpPr>
            <p:cNvPr id="1087" name="_s253069"/>
            <p:cNvSpPr/>
            <p:nvPr/>
          </p:nvSpPr>
          <p:spPr>
            <a:xfrm>
              <a:off x="7778520" y="3429000"/>
              <a:ext cx="104148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Encargado de almacén</a:t>
              </a:r>
              <a:endParaRPr b="0" lang="en-US" sz="1000" spc="-1" strike="noStrike">
                <a:solidFill>
                  <a:srgbClr val="000000"/>
                </a:solidFill>
                <a:latin typeface="Arial"/>
              </a:endParaRPr>
            </a:p>
          </p:txBody>
        </p:sp>
        <p:sp>
          <p:nvSpPr>
            <p:cNvPr id="1085" name="_s253070"/>
            <p:cNvSpPr/>
            <p:nvPr/>
          </p:nvSpPr>
          <p:spPr>
            <a:xfrm>
              <a:off x="2843280" y="2133720"/>
              <a:ext cx="1623960" cy="36684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Responsable técnic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e calidad</a:t>
              </a:r>
              <a:endParaRPr b="0" lang="en-US" sz="1000" spc="-1" strike="noStrike">
                <a:solidFill>
                  <a:srgbClr val="000000"/>
                </a:solidFill>
                <a:latin typeface="Arial"/>
              </a:endParaRPr>
            </a:p>
          </p:txBody>
        </p:sp>
        <p:sp>
          <p:nvSpPr>
            <p:cNvPr id="1082" name="_s253071"/>
            <p:cNvSpPr/>
            <p:nvPr/>
          </p:nvSpPr>
          <p:spPr>
            <a:xfrm>
              <a:off x="5580000" y="2133720"/>
              <a:ext cx="1440000" cy="36684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Responsable de calidad</a:t>
              </a:r>
              <a:endParaRPr b="0" lang="en-US" sz="1000" spc="-1" strike="noStrike">
                <a:solidFill>
                  <a:srgbClr val="000000"/>
                </a:solidFill>
                <a:latin typeface="Arial"/>
              </a:endParaRPr>
            </a:p>
          </p:txBody>
        </p:sp>
        <p:sp>
          <p:nvSpPr>
            <p:cNvPr id="1112" name=""/>
            <p:cNvSpPr/>
            <p:nvPr/>
          </p:nvSpPr>
          <p:spPr>
            <a:xfrm>
              <a:off x="1979640" y="3571920"/>
              <a:ext cx="360360" cy="1800"/>
            </a:xfrm>
            <a:prstGeom prst="line">
              <a:avLst/>
            </a:prstGeom>
            <a:ln w="12600">
              <a:solidFill>
                <a:srgbClr val="ffff99"/>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3" name=""/>
            <p:cNvSpPr/>
            <p:nvPr/>
          </p:nvSpPr>
          <p:spPr>
            <a:xfrm>
              <a:off x="2703600" y="2853000"/>
              <a:ext cx="2376360" cy="1440"/>
            </a:xfrm>
            <a:prstGeom prst="line">
              <a:avLst/>
            </a:prstGeom>
            <a:ln w="12600">
              <a:solidFill>
                <a:srgbClr val="ffff99"/>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4" name=""/>
            <p:cNvSpPr txBox="1"/>
            <p:nvPr/>
          </p:nvSpPr>
          <p:spPr>
            <a:xfrm>
              <a:off x="7164360" y="1916280"/>
              <a:ext cx="1368360" cy="21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ORGANIGRAMA</a:t>
              </a:r>
              <a:endParaRPr b="1" lang="en-US" sz="1800" spc="1" strike="noStrike">
                <a:ln w="0">
                  <a:noFill/>
                </a:ln>
                <a:solidFill>
                  <a:srgbClr val="f7e9a1"/>
                </a:solidFill>
                <a:latin typeface="BankGothic Md BT"/>
                <a:ea typeface="BankGothic Md BT"/>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9T17:05:00Z</dcterms:created>
  <dc:creator>.</dc:creator>
  <dc:description/>
  <dc:language>en-US</dc:language>
  <cp:lastModifiedBy>.</cp:lastModifiedBy>
  <dcterms:modified xsi:type="dcterms:W3CDTF">2009-05-04T21:18:41Z</dcterms:modified>
  <cp:revision>216</cp:revision>
  <dc:subject/>
  <dc:title>Diapositiva 1</dc:title>
</cp:coreProperties>
</file>